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1680" y="739800"/>
            <a:ext cx="49352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690800"/>
            <a:ext cx="5437080" cy="44434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5/enero  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F423785-586C-4D1A-9E37-08C94CAD414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5/enero  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972DFB1-83B3-4056-ABB9-8D101DA2818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5240" cy="37036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0760" y="4690800"/>
            <a:ext cx="54370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5/enero  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E4F0523-6BA1-479F-8DF1-74478CAA7D7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5240" cy="37036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0760" y="4690800"/>
            <a:ext cx="54370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E13E-28AB-4B4E-884D-C862405FE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7D1B-FFD7-4400-BA62-04B8E98F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5702-2DB3-4FE6-B829-65FF8FC8C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28C3-52DD-47E7-BBF5-16451C248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3764-7637-4332-B501-6DCD07D9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3DA8-50C3-48A4-97BA-4511FF56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53A3-F247-41D8-A541-46DB4163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746E-7E5E-4707-84E5-CF44B1CD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51B8-8471-44F3-8914-827F312A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A81D-6AAD-4069-B0C9-1C28F634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CA07-612D-4AA8-8B83-455B466A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40D0-83A1-4A9C-BD75-C4A9946B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C326-EE7A-4D22-8F68-E68A7FA02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cuela de Verano 2012</a:t>
            </a: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mputación I: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troducción a la Program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uan Alvarez Rub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. de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alvarez@dcc.uchile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valuación: 2 Pruebas (60%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Object 3"/>
          <p:cNvGraphicFramePr/>
          <p:nvPr/>
        </p:nvGraphicFramePr>
        <p:xfrm>
          <a:off x="798480" y="2025720"/>
          <a:ext cx="7153200" cy="379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480" y="2025720"/>
                    <a:ext cx="7153200" cy="37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valuación: 4 tareas (40%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Object 3"/>
          <p:cNvGraphicFramePr/>
          <p:nvPr/>
        </p:nvGraphicFramePr>
        <p:xfrm>
          <a:off x="738360" y="2025720"/>
          <a:ext cx="7048440" cy="359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360" y="2025720"/>
                    <a:ext cx="7048440" cy="35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ósi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todología pedagóg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todología téc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pós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fundir estud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sciplina de Computación (Informát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uela de Ingeniería U. de C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traer estudi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bsanar” pr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erspectiva de asignatura para secund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apa Concep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7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8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9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0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1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2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3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4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18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20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380880" y="17175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23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24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" name="AutoShape 27"/>
          <p:cNvCxnSpPr>
            <a:stCxn id="69" idx="6"/>
          </p:cNvCxnSpPr>
          <p:nvPr/>
        </p:nvCxnSpPr>
        <p:spPr>
          <a:xfrm flipV="1">
            <a:off x="5790960" y="3809520"/>
            <a:ext cx="153000" cy="6105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" name="AutoShape 28"/>
          <p:cNvCxnSpPr>
            <a:stCxn id="70" idx="0"/>
            <a:endCxn id="56" idx="2"/>
          </p:cNvCxnSpPr>
          <p:nvPr/>
        </p:nvCxnSpPr>
        <p:spPr>
          <a:xfrm flipH="1" flipV="1" rot="5400000">
            <a:off x="6162480" y="3952440"/>
            <a:ext cx="1067400" cy="62928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3" name="Text Box 29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30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etodología pedagóg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rientación al aprendiz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lases centradas en alumnos y resolución de probl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yudantías-laboratorios: alumnos resuelven problemas en laboratorio con supervisión de profesor ayud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areas: alumnos resuelven problemas en laboratorios supervisados y abier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Hor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Object 3"/>
          <p:cNvGraphicFramePr/>
          <p:nvPr/>
        </p:nvGraphicFramePr>
        <p:xfrm>
          <a:off x="1200240" y="2313000"/>
          <a:ext cx="6419880" cy="379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2313000"/>
                    <a:ext cx="6419880" cy="37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tructura de una cl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troducción (30-4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fesor plantea un problema y presenta contenidos para resolver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jercicio (10-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umnos resuelven un probl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oluciones (10-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fesor presenta y analiza solu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etodología técn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mbiente internet/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enguaje 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digma de orientación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alvarez</dc:creator>
  <dc:description/>
  <dc:language>en-US</dc:language>
  <cp:lastModifiedBy>jalvarez</cp:lastModifiedBy>
  <cp:lastPrinted>2006-01-04T11:43:13Z</cp:lastPrinted>
  <dcterms:modified xsi:type="dcterms:W3CDTF">2012-01-07T19:32:36Z</dcterms:modified>
  <cp:revision>31</cp:revision>
  <dc:subject/>
  <dc:title>Un curso intensivo de Introducción a la Programación Orientada a Objetos en Java  para estudiantes de secundaria </dc:title>
</cp:coreProperties>
</file>