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Introduc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31680" y="739800"/>
            <a:ext cx="4935240" cy="370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0760" y="4690800"/>
            <a:ext cx="5437080" cy="44434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5/enero  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5ADBC18-749A-466D-A380-791C5E05F34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0" y="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Introduc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5/enero  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345C3FA-3FA8-44A5-B0B5-3DAF57DCCFD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932040" y="739800"/>
            <a:ext cx="4935240" cy="370368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0760" y="4690800"/>
            <a:ext cx="54370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0" y="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Introduc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5/enero  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4CE2BD3-6515-465B-BC70-1DD3B78ABEA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932040" y="739800"/>
            <a:ext cx="4935240" cy="370368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0760" y="4690800"/>
            <a:ext cx="54370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6FD3-DF90-420B-A36D-3F6854A3C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A6F4-D765-406E-BE9F-FBCB5E60C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6ADD-2448-43E1-9FA6-C11D819F7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47BE-F0E1-4153-9EDF-875593351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46F8-097E-467C-BCC8-2AC5A83D6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BCA3-AA5C-4685-B8E3-763C0A7C7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0DC9-2908-47E1-9017-A76B9541B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6BC0-C828-44B5-9C6A-F30AE6BC3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55EB-9008-4A05-A458-C9B623CC5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2EE7-DD0A-4933-B515-4681152A2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9B60-5FB8-4208-A61F-A95480627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7FD5-1E2A-4B3B-86D9-673E93F72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BBE66-838B-4655-AE14-D999F78593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Escuela de Verano 2012</a:t>
            </a:r>
            <a:br>
              <a:rPr sz="4400"/>
            </a:b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omputación I: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Introducción a la Programació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648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Juan Alvarez Rub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U. de Ch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jalvarez@dcc.uchile.c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Evaluación: 2 Pruebas (60%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" name="Object 3"/>
          <p:cNvGraphicFramePr/>
          <p:nvPr/>
        </p:nvGraphicFramePr>
        <p:xfrm>
          <a:off x="798480" y="2025720"/>
          <a:ext cx="7153200" cy="3795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8480" y="2025720"/>
                    <a:ext cx="7153200" cy="37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Evaluación: 4 tareas (40%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" name="Object 3"/>
          <p:cNvGraphicFramePr/>
          <p:nvPr/>
        </p:nvGraphicFramePr>
        <p:xfrm>
          <a:off x="738360" y="2025720"/>
          <a:ext cx="7048440" cy="3597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8360" y="2025720"/>
                    <a:ext cx="7048440" cy="359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pósi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nteni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metodología pedagóg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metodología técn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valu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Propósi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ifundir estud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isciplina de Computación (Informátic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cuela de Ingeniería U. de Ch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traer estudia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ubsanar” prepar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erspectiva de asignatura para secunda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gene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solver probl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pecíf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cribir programas que resuelvan probl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 largo plazo (propósit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azonamientos algorítmico y lóg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apacidades de abstracción y modelamien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habilidad general para resolver probl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Mapa Conceptu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AutoShape 4"/>
          <p:cNvSpPr/>
          <p:nvPr/>
        </p:nvSpPr>
        <p:spPr>
          <a:xfrm>
            <a:off x="5486400" y="1828800"/>
            <a:ext cx="3048120" cy="19051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mpu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Oval 7"/>
          <p:cNvSpPr/>
          <p:nvPr/>
        </p:nvSpPr>
        <p:spPr>
          <a:xfrm>
            <a:off x="4876920" y="3962520"/>
            <a:ext cx="38088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8"/>
          <p:cNvSpPr/>
          <p:nvPr/>
        </p:nvSpPr>
        <p:spPr>
          <a:xfrm>
            <a:off x="5029200" y="4419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Line 9"/>
          <p:cNvSpPr/>
          <p:nvPr/>
        </p:nvSpPr>
        <p:spPr>
          <a:xfrm flipV="1">
            <a:off x="5105520" y="4495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10"/>
          <p:cNvSpPr/>
          <p:nvPr/>
        </p:nvSpPr>
        <p:spPr>
          <a:xfrm>
            <a:off x="5105520" y="480060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11"/>
          <p:cNvSpPr/>
          <p:nvPr/>
        </p:nvSpPr>
        <p:spPr>
          <a:xfrm flipV="1">
            <a:off x="4952880" y="5410080"/>
            <a:ext cx="76212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12"/>
          <p:cNvSpPr/>
          <p:nvPr/>
        </p:nvSpPr>
        <p:spPr>
          <a:xfrm>
            <a:off x="5715000" y="54100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13"/>
          <p:cNvSpPr/>
          <p:nvPr/>
        </p:nvSpPr>
        <p:spPr>
          <a:xfrm flipV="1">
            <a:off x="4952880" y="5181120"/>
            <a:ext cx="3812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14"/>
          <p:cNvSpPr/>
          <p:nvPr/>
        </p:nvSpPr>
        <p:spPr>
          <a:xfrm>
            <a:off x="5334120" y="51814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15"/>
          <p:cNvSpPr/>
          <p:nvPr/>
        </p:nvSpPr>
        <p:spPr>
          <a:xfrm>
            <a:off x="1143000" y="54100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bl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AutoShape 18"/>
          <p:cNvSpPr/>
          <p:nvPr/>
        </p:nvSpPr>
        <p:spPr>
          <a:xfrm>
            <a:off x="3429000" y="5638680"/>
            <a:ext cx="533520" cy="304920"/>
          </a:xfrm>
          <a:prstGeom prst="rightArrow">
            <a:avLst>
              <a:gd name="adj1" fmla="val 50000"/>
              <a:gd name="adj2" fmla="val 4374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20"/>
          <p:cNvSpPr/>
          <p:nvPr/>
        </p:nvSpPr>
        <p:spPr>
          <a:xfrm flipH="1">
            <a:off x="304200" y="1752480"/>
            <a:ext cx="4647960" cy="1905120"/>
          </a:xfrm>
          <a:prstGeom prst="cloudCallout">
            <a:avLst>
              <a:gd name="adj1" fmla="val -44467"/>
              <a:gd name="adj2" fmla="val 6991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21"/>
          <p:cNvSpPr/>
          <p:nvPr/>
        </p:nvSpPr>
        <p:spPr>
          <a:xfrm>
            <a:off x="380880" y="1717560"/>
            <a:ext cx="485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azonamiento algorítmico/lóg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pacidad modelamiento/abstra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Habilidad gral resolver probl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23"/>
          <p:cNvSpPr/>
          <p:nvPr/>
        </p:nvSpPr>
        <p:spPr>
          <a:xfrm>
            <a:off x="5562720" y="4343400"/>
            <a:ext cx="22860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24"/>
          <p:cNvSpPr/>
          <p:nvPr/>
        </p:nvSpPr>
        <p:spPr>
          <a:xfrm>
            <a:off x="5715000" y="4800600"/>
            <a:ext cx="1066680" cy="228600"/>
          </a:xfrm>
          <a:prstGeom prst="parallelogram">
            <a:avLst>
              <a:gd name="adj" fmla="val 11665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" name="AutoShape 27"/>
          <p:cNvCxnSpPr>
            <a:stCxn id="69" idx="6"/>
          </p:cNvCxnSpPr>
          <p:nvPr/>
        </p:nvCxnSpPr>
        <p:spPr>
          <a:xfrm flipV="1">
            <a:off x="5790960" y="3809520"/>
            <a:ext cx="153000" cy="6105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2" name="AutoShape 28"/>
          <p:cNvCxnSpPr>
            <a:stCxn id="70" idx="0"/>
            <a:endCxn id="56" idx="2"/>
          </p:cNvCxnSpPr>
          <p:nvPr/>
        </p:nvCxnSpPr>
        <p:spPr>
          <a:xfrm flipH="1" flipV="1" rot="5400000">
            <a:off x="6162480" y="3952440"/>
            <a:ext cx="1067400" cy="62928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73" name="Text Box 29"/>
          <p:cNvSpPr/>
          <p:nvPr/>
        </p:nvSpPr>
        <p:spPr>
          <a:xfrm>
            <a:off x="6781680" y="54864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olu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30"/>
          <p:cNvSpPr/>
          <p:nvPr/>
        </p:nvSpPr>
        <p:spPr>
          <a:xfrm>
            <a:off x="6095880" y="5638680"/>
            <a:ext cx="533520" cy="304920"/>
          </a:xfrm>
          <a:prstGeom prst="rightArrow">
            <a:avLst>
              <a:gd name="adj1" fmla="val 50000"/>
              <a:gd name="adj2" fmla="val 4374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Metodología pedagóg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orientación al aprendiza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lases centradas en alumnos y resolución de problem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yudantías-laboratorios: alumnos resuelven problemas en laboratorio con supervisión de profesor ayuda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tareas: alumnos resuelven problemas en laboratorios supervisados y abier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Hora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Object 3"/>
          <p:cNvGraphicFramePr/>
          <p:nvPr/>
        </p:nvGraphicFramePr>
        <p:xfrm>
          <a:off x="1200240" y="2313000"/>
          <a:ext cx="6419880" cy="3798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00240" y="2313000"/>
                    <a:ext cx="6419880" cy="379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Estructura de una cl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introducción (30-40 minut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rofesor plantea un problema y presenta contenidos para resolver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jercicio (10-20 minut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lumnos resuelven un probl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oluciones (10-20 minut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rofesor presenta y analiza solu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Metodología técn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mbiente internet/we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enguaje Pyth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aradigma de orientación a obje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18:57:29Z</dcterms:created>
  <dc:creator>jalvarez</dc:creator>
  <dc:description/>
  <dc:language>en-US</dc:language>
  <cp:lastModifiedBy>jalvarez</cp:lastModifiedBy>
  <cp:lastPrinted>2006-01-04T11:43:13Z</cp:lastPrinted>
  <dcterms:modified xsi:type="dcterms:W3CDTF">2012-01-07T19:32:36Z</dcterms:modified>
  <cp:revision>31</cp:revision>
  <dc:subject/>
  <dc:title>Un curso intensivo de Introducción a la Programación Orientada a Objetos en Java  para estudiantes de secundaria </dc:title>
</cp:coreProperties>
</file>