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AD1-35D8-4D50-BB99-9C07B71E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66B-5E2B-4558-8C84-38688FCD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13A-97B2-4E82-8266-623C5C43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108-F9E5-481B-A6E6-F59F3E75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F59-FFBB-44D8-A97B-E048FABF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5D8-38EA-4744-9B9F-80747F07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0D1-D761-4691-8F69-428B7A85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DF8-19DA-4A9D-B760-DA971B32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50C-1A95-4348-A373-500380E5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B4C-DE6A-4539-871B-8EE7CC3F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1E0-B959-4D53-A9B2-3EA3175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B95-DEA6-4D8E-842D-544DC905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BF0F-10F1-4533-A9C4-DA5466E35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11-01-12T13:45:34Z</dcterms:modified>
  <cp:revision>22</cp:revision>
  <dc:subject/>
  <dc:title>Sin título de diapositiva</dc:title>
</cp:coreProperties>
</file>