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5526-96EB-424E-92B9-E7497381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187F-5FA0-4796-A8F7-3BDF7CAC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70A-4C8A-478F-8A66-80ACB402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87C-706A-42DD-B4B8-B98747C2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C33-EC28-4C6A-B8AF-34EE1109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A41-3F96-43A7-AC86-46C48891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394-9BAE-4E94-A542-AC501783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D825-3C9A-4407-A261-08890BD2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7CA0-AE75-46E2-89A0-50F6CB46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77C-AACB-45A8-B829-DA533851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A82-03B0-4698-A269-77DBBFC7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736-473D-4B1E-8EC1-6928A5BA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B00C-6619-41FE-BBE1-E94CAF93A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1200" y="577800"/>
          <a:ext cx="8485200" cy="57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77800"/>
                    <a:ext cx="848520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1200" y="309600"/>
          <a:ext cx="86598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309600"/>
                    <a:ext cx="86598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8200" y="430200"/>
          <a:ext cx="82962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30200"/>
                    <a:ext cx="82962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9200" y="469800"/>
          <a:ext cx="8686800" cy="703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69800"/>
                    <a:ext cx="8686800" cy="703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06400" y="484200"/>
          <a:ext cx="78138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484200"/>
                    <a:ext cx="78138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44600" y="406440"/>
          <a:ext cx="8585280" cy="684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06440"/>
                    <a:ext cx="85852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406440"/>
          <a:ext cx="8737560" cy="791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6440"/>
                    <a:ext cx="8737560" cy="79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30360" y="568440"/>
          <a:ext cx="82645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645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35040" y="635040"/>
          <a:ext cx="8051760" cy="558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635040"/>
                    <a:ext cx="805176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4520" y="577800"/>
          <a:ext cx="819288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77800"/>
                    <a:ext cx="819288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44600" y="431640"/>
          <a:ext cx="8407440" cy="651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31640"/>
                    <a:ext cx="840744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82600" y="457200"/>
          <a:ext cx="9225000" cy="70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457200"/>
                    <a:ext cx="9225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44600" y="457200"/>
          <a:ext cx="85248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5248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9800" y="444600"/>
          <a:ext cx="89154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9154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1200" y="565200"/>
          <a:ext cx="8094600" cy="539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65200"/>
                    <a:ext cx="809460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44600" y="417600"/>
          <a:ext cx="84834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17600"/>
                    <a:ext cx="84834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03200" y="469800"/>
          <a:ext cx="8578800" cy="598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7880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58800" y="511200"/>
          <a:ext cx="8121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11200"/>
                    <a:ext cx="8121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jalvarez</cp:lastModifiedBy>
  <cp:lastPrinted>2006-05-31T13:28:42Z</cp:lastPrinted>
  <dcterms:modified xsi:type="dcterms:W3CDTF">2011-01-12T13:45:34Z</dcterms:modified>
  <cp:revision>22</cp:revision>
  <dc:subject/>
  <dc:title>Sin título de diapositiva</dc:title>
</cp:coreProperties>
</file>