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A04-1379-4E61-9880-905434B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412-7D89-428D-8C14-FD78FB69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25D-A441-4281-BC7D-3829D229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9E2-7148-41C4-8172-F57BF7CC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954-F692-4530-963B-2C099C4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D06-2792-47EB-BB94-A43EC2D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9F2-1B3B-4A5E-AFB8-6D1E973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9DA-AC04-4955-8DED-2A30567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79C-3D41-4215-95E1-B73F32C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800-1A24-4153-978E-8566065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3FB-9A9A-47CD-9886-B276700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573-5DB1-4B84-835E-C8D5C8E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0FB-77D2-488F-85F1-BBB61332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1-12T13:45:34Z</dcterms:modified>
  <cp:revision>22</cp:revision>
  <dc:subject/>
  <dc:title>Sin título de diapositiva</dc:title>
</cp:coreProperties>
</file>