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21C0-9AB1-42B2-A058-832014DB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08F-34F3-43B0-AE2F-00209BFE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22E0-EF98-478D-B363-764E05D0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E88-5E1A-4E5A-B39E-E6F9CB3F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FBAC-93E0-4EC4-9D41-CE771D45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8C2-68A9-46BB-B1DC-868B6C5E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38E9-7783-4E6D-98C0-758E3FA9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34B-EE74-495E-9A8F-60970226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F63E-B6A1-44ED-AFBE-38869784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FA40-0330-46C0-ACA6-4814809F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83D-DE42-48D0-9713-61B6C4CC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A0F2-44C1-4209-A22D-49E9AC4A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914C-B6E9-4E47-92CF-DEA0C5F73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5640" y="549360"/>
          <a:ext cx="809136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809136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806400"/>
          <a:ext cx="8785080" cy="5430600"/>
        </p:xfrm>
        <a:graphic>
          <a:graphicData uri="http://schemas.openxmlformats.org/drawingml/2006/table">
            <a:tbl>
              <a:tblPr/>
              <a:tblGrid>
                <a:gridCol w="820440"/>
                <a:gridCol w="3755880"/>
                <a:gridCol w="4208760"/>
              </a:tblGrid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96720" y="258840"/>
          <a:ext cx="8239320" cy="74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58840"/>
                    <a:ext cx="8239320" cy="74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79440" y="295200"/>
          <a:ext cx="8515440" cy="62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1544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1-01-12T14:18:22Z</dcterms:modified>
  <cp:revision>65</cp:revision>
  <dc:subject/>
  <dc:title>Sin título de diapositiva</dc:title>
</cp:coreProperties>
</file>