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A7A-D2C5-425A-B15E-EE15A765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0AB-6742-48AA-82C0-30755652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E85-8745-48BF-80A6-EF44E378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CB2-1997-4BE1-8537-56D6534E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751-FD10-4100-BE06-CB55F43C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71B-54B4-4662-B6EC-4B9E0B89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63B-6628-4945-BE5E-6894547C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295-C312-40C3-9DF7-45C2D047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B09-3CCE-4B43-A2E4-60E04C8E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CC4-D5CF-4271-8CA2-C92D4A47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35E-A3DC-4146-9B72-F2C811B1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961-247E-475E-965C-D100415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EF95-556D-436A-BB47-89CFA260C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8:22Z</dcterms:modified>
  <cp:revision>65</cp:revision>
  <dc:subject/>
  <dc:title>Sin título de diapositiva</dc:title>
</cp:coreProperties>
</file>