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13527-825E-46E1-99D0-E4E674DB1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2A54F-5388-4EEB-9E96-9DF3F7D2A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8E1B0-F2CE-4B14-8D25-0AC97D256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EFC55-A1DF-49E2-AEA6-BE21415E4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7B457-C66D-43CB-8D42-2AB71B624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DCD7D-E694-498D-8A0F-B7167C087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E480C-4363-46D7-8030-710CFCD9B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6FA70-0657-4AE4-88F3-35B26F8BD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DF53E-B715-42E6-8998-694769D74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E1234-00AE-4A80-97F6-3B7B96D35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7A102-B1A3-4A6D-AB6C-1B3520D34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2A8B6-C521-4FD2-9486-973814F12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49857-59CE-459A-B095-DE2ED7B9A4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768320" y="2795760"/>
          <a:ext cx="5518440" cy="1236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8320" y="2795760"/>
                    <a:ext cx="5518440" cy="123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" name=""/>
          <p:cNvGraphicFramePr/>
          <p:nvPr/>
        </p:nvGraphicFramePr>
        <p:xfrm>
          <a:off x="630360" y="479520"/>
          <a:ext cx="7980120" cy="67294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30360" y="479520"/>
                    <a:ext cx="7980120" cy="672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635040" y="571680"/>
          <a:ext cx="8140680" cy="6184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5040" y="571680"/>
                    <a:ext cx="8140680" cy="618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431640" y="495360"/>
          <a:ext cx="8560080" cy="6362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1640" y="495360"/>
                    <a:ext cx="8560080" cy="636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507960" y="482760"/>
          <a:ext cx="8344080" cy="6121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7960" y="482760"/>
                    <a:ext cx="8344080" cy="612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509760" y="482760"/>
          <a:ext cx="8346960" cy="6113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9760" y="482760"/>
                    <a:ext cx="8346960" cy="611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507960" y="482760"/>
          <a:ext cx="8344080" cy="6134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7960" y="482760"/>
                    <a:ext cx="8344080" cy="613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507960" y="482760"/>
          <a:ext cx="8344080" cy="6476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7960" y="482760"/>
                    <a:ext cx="8344080" cy="647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"/>
          <p:cNvGraphicFramePr/>
          <p:nvPr/>
        </p:nvGraphicFramePr>
        <p:xfrm>
          <a:off x="507960" y="482760"/>
          <a:ext cx="8344080" cy="6121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7960" y="482760"/>
                    <a:ext cx="8344080" cy="612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509760" y="482760"/>
          <a:ext cx="8229600" cy="6387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9760" y="482760"/>
                    <a:ext cx="8229600" cy="638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" name=""/>
          <p:cNvGraphicFramePr/>
          <p:nvPr/>
        </p:nvGraphicFramePr>
        <p:xfrm>
          <a:off x="477720" y="461880"/>
          <a:ext cx="8367840" cy="6486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7720" y="461880"/>
                    <a:ext cx="8367840" cy="648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403200" y="457200"/>
          <a:ext cx="8190000" cy="5835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457200"/>
                    <a:ext cx="8190000" cy="583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685800" y="550800"/>
          <a:ext cx="8283600" cy="6039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550800"/>
                    <a:ext cx="8283600" cy="603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401760" y="461880"/>
          <a:ext cx="8161200" cy="5835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1760" y="461880"/>
                    <a:ext cx="8161200" cy="583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2484360" y="371628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484360" y="407664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56000" y="472428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598320" y="384120"/>
          <a:ext cx="8237880" cy="6640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8320" y="384120"/>
                    <a:ext cx="8237880" cy="664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"/>
          <p:cNvSpPr/>
          <p:nvPr/>
        </p:nvSpPr>
        <p:spPr>
          <a:xfrm flipV="1">
            <a:off x="4500720" y="458136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5796000" y="4508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"/>
          <p:cNvGraphicFramePr/>
          <p:nvPr/>
        </p:nvGraphicFramePr>
        <p:xfrm>
          <a:off x="573120" y="495360"/>
          <a:ext cx="8143920" cy="7964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3120" y="495360"/>
                    <a:ext cx="8143920" cy="796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622440" y="431640"/>
          <a:ext cx="8305560" cy="6083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2440" y="431640"/>
                    <a:ext cx="8305560" cy="608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"/>
          <p:cNvGraphicFramePr/>
          <p:nvPr/>
        </p:nvGraphicFramePr>
        <p:xfrm>
          <a:off x="495360" y="444600"/>
          <a:ext cx="8534520" cy="6438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360" y="444600"/>
                    <a:ext cx="8534520" cy="643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324000" y="934920"/>
            <a:ext cx="8208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grabar n líneas en orden inver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Writer b=new PrintWriter(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ew FileWriter(archivo)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or(int i=n-1; i&gt;=0; --i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.println( lineas[i] 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.close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01:30Z</dcterms:created>
  <dc:creator>jalvarez</dc:creator>
  <dc:description/>
  <dc:language>en-US</dc:language>
  <cp:lastModifiedBy>jalvarez</cp:lastModifiedBy>
  <cp:lastPrinted>2006-05-19T15:19:42Z</cp:lastPrinted>
  <dcterms:modified xsi:type="dcterms:W3CDTF">2011-01-10T13:15:54Z</dcterms:modified>
  <cp:revision>39</cp:revision>
  <dc:subject/>
  <dc:title>Sin título de diapositiva</dc:title>
</cp:coreProperties>
</file>