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9B5-0D1C-4E5F-B318-A8B57976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4439-1BDB-4E75-A3B3-3A78F452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F3B-7682-4D96-8BF0-99147C15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052F-5A14-4DBC-99B1-BE768E8D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08D-309B-4708-B0AB-02AB13FE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A1F7-B48D-4707-A1E9-85CA2812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42C7-A6C0-4C63-B448-3D24AB53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6B1D-7108-487D-9B82-946F2E16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6B7-52E7-49F8-9387-7AB75424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665-E771-4CF3-917D-034F0449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4E8-1010-4C4D-A9AA-F442D782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EDD-C231-4B59-B4E2-9A354804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F0FE-F179-4DBE-9251-71E4051B2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30360" y="479520"/>
          <a:ext cx="7980120" cy="6729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360" y="479520"/>
                    <a:ext cx="7980120" cy="67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35040" y="571680"/>
          <a:ext cx="814068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571680"/>
                    <a:ext cx="814068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31640" y="495360"/>
          <a:ext cx="8560080" cy="636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95360"/>
                    <a:ext cx="8560080" cy="63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09760" y="482760"/>
          <a:ext cx="8346960" cy="611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82760"/>
                    <a:ext cx="8346960" cy="61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07960" y="482760"/>
          <a:ext cx="83440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07960" y="482760"/>
          <a:ext cx="8344080" cy="64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4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09760" y="482760"/>
          <a:ext cx="8229600" cy="638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82760"/>
                    <a:ext cx="8229600" cy="63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77720" y="461880"/>
          <a:ext cx="8367840" cy="648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461880"/>
                    <a:ext cx="8367840" cy="64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03200" y="457200"/>
          <a:ext cx="81900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57200"/>
                    <a:ext cx="81900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5800" y="550800"/>
          <a:ext cx="828360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50800"/>
                    <a:ext cx="828360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01760" y="461880"/>
          <a:ext cx="81612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60" y="461880"/>
                    <a:ext cx="81612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484360" y="3716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724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98320" y="384120"/>
          <a:ext cx="8237880" cy="66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" y="384120"/>
                    <a:ext cx="823788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flipV="1">
            <a:off x="450072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96000" y="450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73120" y="495360"/>
          <a:ext cx="8143920" cy="796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495360"/>
                    <a:ext cx="8143920" cy="79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22440" y="431640"/>
          <a:ext cx="8305560" cy="608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431640"/>
                    <a:ext cx="8305560" cy="608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95360" y="444600"/>
          <a:ext cx="8534520" cy="64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44600"/>
                    <a:ext cx="8534520" cy="64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9349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grabar n líneas en orden inve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Writer b=new PrintWrit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ileWriter(archivo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n-1; i&gt;=0; --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println( lineas[i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11-01-10T13:15:54Z</dcterms:modified>
  <cp:revision>39</cp:revision>
  <dc:subject/>
  <dc:title>Sin título de diapositiva</dc:title>
</cp:coreProperties>
</file>