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B4BC-4833-44CB-89E0-41F4088B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83C3-5C61-4A27-A4E3-FA8612DA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5130-AE6A-42F0-8712-1378E848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2D0F-A37F-4B94-97AB-BD736C9D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001D-8D78-4D85-B87D-F4C14EFE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2D91-00F6-45FA-A53A-4E382B0A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086D-6C01-469E-80D6-66DE0E93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391C-BA1F-497D-B279-D005E8DD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FCD2-97C0-4E57-975F-A2DAED9F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B201-586E-425E-8EFD-ACBB713D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79EE-79F7-44C3-B478-5AFF256D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C23F-DD4D-4421-BFF4-24989783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BA2D-D6A7-42D4-9A35-39C058267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630360" y="479520"/>
          <a:ext cx="7980120" cy="6729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360" y="479520"/>
                    <a:ext cx="7980120" cy="67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35040" y="571680"/>
          <a:ext cx="814068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571680"/>
                    <a:ext cx="814068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31640" y="495360"/>
          <a:ext cx="8560080" cy="636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95360"/>
                    <a:ext cx="8560080" cy="63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09760" y="482760"/>
          <a:ext cx="8346960" cy="611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82760"/>
                    <a:ext cx="8346960" cy="61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07960" y="482760"/>
          <a:ext cx="8344080" cy="61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07960" y="482760"/>
          <a:ext cx="8344080" cy="647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4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09760" y="482760"/>
          <a:ext cx="8229600" cy="638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82760"/>
                    <a:ext cx="8229600" cy="63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77720" y="461880"/>
          <a:ext cx="8367840" cy="648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461880"/>
                    <a:ext cx="8367840" cy="64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03200" y="457200"/>
          <a:ext cx="819000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57200"/>
                    <a:ext cx="81900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5800" y="550800"/>
          <a:ext cx="8283600" cy="603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50800"/>
                    <a:ext cx="828360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01760" y="461880"/>
          <a:ext cx="816120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60" y="461880"/>
                    <a:ext cx="81612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484360" y="3716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84360" y="40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4724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98320" y="384120"/>
          <a:ext cx="8237880" cy="66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" y="384120"/>
                    <a:ext cx="8237880" cy="66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flipV="1">
            <a:off x="450072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796000" y="4508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73120" y="495360"/>
          <a:ext cx="8143920" cy="796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495360"/>
                    <a:ext cx="8143920" cy="79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22440" y="431640"/>
          <a:ext cx="8305560" cy="608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431640"/>
                    <a:ext cx="8305560" cy="608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95360" y="444600"/>
          <a:ext cx="8534520" cy="64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44600"/>
                    <a:ext cx="8534520" cy="64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934920"/>
            <a:ext cx="82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grabar n líneas en orden inve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Writer b=new PrintWriter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FileWriter(archivo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n-1; i&gt;=0; --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.println( lineas[i]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jalvarez</cp:lastModifiedBy>
  <cp:lastPrinted>2006-05-19T15:19:42Z</cp:lastPrinted>
  <dcterms:modified xsi:type="dcterms:W3CDTF">2011-01-10T13:15:54Z</dcterms:modified>
  <cp:revision>39</cp:revision>
  <dc:subject/>
  <dc:title>Sin título de diapositiva</dc:title>
</cp:coreProperties>
</file>