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238-47D6-432B-B3E2-E5E23B7E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3BB-3C25-46A1-B87A-173EE3E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9F5-D642-494F-A9EE-A4539054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1A0-2DB3-48DB-BCF6-A9E0CE3F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99E-9418-48CA-A73F-2BF18D6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035-6453-4029-8456-3B8DEB7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FA2-E288-42D2-9A5C-D752970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E01-F9FF-473B-9940-9FB68DA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C5B-32C7-4A9E-996A-D6847C2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180-F941-4173-874D-E9CDB00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1F4-3AC7-4E91-927F-962F358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1C3-4923-46CA-BB9F-02BA368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B0D-9D01-4AD7-A5CA-6C904DC7F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02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02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1-07T11:21:42Z</dcterms:modified>
  <cp:revision>21</cp:revision>
  <dc:subject/>
  <dc:title>Sin título de diapositiva</dc:title>
</cp:coreProperties>
</file>