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EF8-1CED-43A9-942A-724C0886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91D-453F-4924-867D-A50530DE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B3D-8226-4CEA-8EF2-CE91B2CD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6E8-3E13-415E-A2ED-658EBD71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DB0-2FFA-441C-95B3-4643BB45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DFA-9C6A-49D4-A080-22153F73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9E9-5AB1-4FA2-8047-4794B33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601-424C-46CD-8102-1E0C3B30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BEE-6B8D-4E71-8A55-A64BCE9F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9CD-F161-4452-A613-4172E32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7A3-5D4A-4700-9E12-FD764EF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394-30AF-40BA-83B5-3CE69EC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C8FE-4DC3-431E-A47E-CE4DFEE65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8880" y="390600"/>
          <a:ext cx="820260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0260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1-07T11:21:42Z</dcterms:modified>
  <cp:revision>21</cp:revision>
  <dc:subject/>
  <dc:title>Sin título de diapositiva</dc:title>
</cp:coreProperties>
</file>