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32E-CBDF-4FEF-AEB4-673276A1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D1A-BDA6-47D3-84FE-0B4F998A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0C5-2F9A-4DC2-8C7E-516C091F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879-AF9D-4330-ABCA-473FE1A8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A6D-78D3-4F7C-829D-A5FB5B53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0BB-33E1-4D1D-97F9-5CAF7C7F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BE8-84F6-492C-B2EB-AC12C1B2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A13-2EE4-404E-801E-390D9D24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110-3859-49AA-A60D-5B4D3917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1E2-1EA2-4F8C-89F2-FC2DBF64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5A6-2170-400E-914F-8839E74E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2AE-9810-484E-A907-D10D6C1A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0FAF-13E8-4232-893B-0C413CA02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3360" y="620640"/>
          <a:ext cx="8202600" cy="579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202600" cy="57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03360" y="620640"/>
          <a:ext cx="81057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057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3360" y="620640"/>
          <a:ext cx="803412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3412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12720" y="506520"/>
          <a:ext cx="819324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506520"/>
                    <a:ext cx="819324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62120" y="546120"/>
          <a:ext cx="79246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246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5120" y="612720"/>
          <a:ext cx="8383680" cy="591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612720"/>
                    <a:ext cx="838368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79520" y="595440"/>
          <a:ext cx="846936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595440"/>
                    <a:ext cx="846936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8880" y="390600"/>
          <a:ext cx="820260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390600"/>
                    <a:ext cx="820260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20840" y="803160"/>
          <a:ext cx="8288280" cy="520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03160"/>
                    <a:ext cx="828828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11-01-07T11:21:42Z</dcterms:modified>
  <cp:revision>21</cp:revision>
  <dc:subject/>
  <dc:title>Sin título de diapositiva</dc:title>
</cp:coreProperties>
</file>