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A4B-392B-41A2-96FE-4FC937D8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406-1867-4E3F-9674-A1083415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88A-9F38-4A1F-9C6B-58675AA3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C4B-F82A-4743-AD10-B71F1BE9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AB5-9FAA-45C5-AD73-68F0F705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21B-D036-4133-9745-A808CDB8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77F-04AA-4DB0-A908-F6E4171F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095-ADAC-4B7A-AB83-934F5B5A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10C-7211-4947-8E31-0F86148B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5FC-E311-40CD-A7E0-1DB5E1E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B5C-B213-42CD-92F3-57417F51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13C-6449-4A20-9368-F8A8DFBA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DF02-471F-4853-9B04-5A502897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01960" y="3441600"/>
            <a:ext cx="1942920" cy="1828800"/>
            <a:chOff x="2901960" y="3441600"/>
            <a:chExt cx="1942920" cy="1828800"/>
          </a:xfrm>
        </p:grpSpPr>
        <p:sp>
          <p:nvSpPr>
            <p:cNvPr id="68" name="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01-07T13:10:55Z</dcterms:modified>
  <cp:revision>76</cp:revision>
  <dc:subject/>
  <dc:title>Sin título de diapositiva</dc:title>
</cp:coreProperties>
</file>