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07D-F4F4-409A-9EED-BD19369C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41B-1CCB-4B69-A400-C169ABBD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9D16-18D2-47A2-81E1-136F2BD6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1BEC-F692-41BC-B017-F82F4864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378-BB58-4E1A-9A5C-CBCBC5E6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0BB-5DB6-4066-84CC-78881EF4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D6A-3D6D-48F9-9878-7D683806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BC92-EBE9-44CE-8E4B-CB947991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4AB3-1695-456B-9DD5-2C61E285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2B4-1586-4951-ACEC-599F4622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0B0-42BD-407F-9DB1-90202701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EB7-4958-412F-BFFF-6D42E16B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67F90167-9894-45A7-989B-AA36C3DD87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9120" y="493560"/>
          <a:ext cx="829152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9152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407880"/>
          <a:ext cx="842652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2652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82760"/>
          <a:ext cx="856296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6296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2760"/>
          <a:ext cx="8514000" cy="70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26240" cy="65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26240" cy="65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17080" cy="821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17080" cy="821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1-01-05T19:40:21Z</dcterms:modified>
  <cp:revision>94</cp:revision>
  <dc:subject/>
  <dc:title>Sin título de diapositiva</dc:title>
</cp:coreProperties>
</file>