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5D29-EA0B-4BEB-9DBC-AA199E49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58F7-7EDA-4B43-B319-0AE995F3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9AF6-59FE-487F-8F06-9B4A17AB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5AF1-B478-4CA6-ADC0-AF6FFADF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98D2-7F3E-4D4C-BD46-3C8982F4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8D15-96E6-4195-8DA8-C3BCF172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0E05-5357-4D34-AD45-369DB5B6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9D9C-51D3-4545-82D3-1CB84941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3AA3-8C5A-4E44-AFD6-28604A52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BDD9-F7E1-4202-8DD3-8B0D2B1B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17C5-02C1-4F4D-8AA4-6C65A3BC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9A73-A0EC-4183-B962-C339A786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7103A253-2359-49FB-93B1-A1ED2CA385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19120" y="493560"/>
          <a:ext cx="8291520" cy="75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291520" cy="75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9800" y="407880"/>
          <a:ext cx="842652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2652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82760"/>
          <a:ext cx="8562960" cy="69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62960" cy="69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9800" y="482760"/>
          <a:ext cx="8514000" cy="701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Pytho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print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inpu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instrucción en un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put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473040"/>
            <a:ext cx="8640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26240" cy="65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26240" cy="65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17080" cy="821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17080" cy="821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1-01-05T19:40:21Z</dcterms:modified>
  <cp:revision>94</cp:revision>
  <dc:subject/>
  <dc:title>Sin título de diapositiva</dc:title>
</cp:coreProperties>
</file>