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8CDE-8DB7-41AB-9DDA-44E6C888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32CF-623F-4A86-BF19-D4C95777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B29E-AC07-40D5-A12B-979D27AF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1EE-0796-492C-9FC2-829800D7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6114-B634-4DEB-9163-654114DD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9567-F890-4B13-BE37-634DE4B5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CC3-06D8-4385-ACEB-0F5A9E5B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39B5-A040-4275-9D38-7A0A89DF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06F-5610-4B7A-BF66-CCC0306B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AA60-02F9-4264-A3D7-0E28E9BA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B240-9439-4673-8A88-279BFA3D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D57-6CF3-47C5-BD6B-E4F777BB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4098432D-3FF4-41E3-9254-65A9726B03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19120" y="493560"/>
          <a:ext cx="8291520" cy="75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291520" cy="75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407880"/>
          <a:ext cx="842652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2652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82760"/>
          <a:ext cx="8562960" cy="69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62960" cy="69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82760"/>
          <a:ext cx="8514000" cy="701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473040"/>
            <a:ext cx="8640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26240" cy="65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26240" cy="65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17080" cy="821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17080" cy="821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1-01-05T19:40:21Z</dcterms:modified>
  <cp:revision>94</cp:revision>
  <dc:subject/>
  <dc:title>Sin título de diapositiva</dc:title>
</cp:coreProperties>
</file>