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2EC-1A69-4E71-A43B-520A5CCB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9E6F-AB87-4095-8CBD-7D1976DE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408-938A-4B83-BA8E-24A3C845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687-6F2E-4781-91BA-5B67BC87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845-7D3E-450D-B7FD-06C2CAE6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EDA2-2DCE-449B-81E3-C5301030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C0E1-579E-4299-BDF8-69850166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98BE-D421-421B-B019-5F34CF16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BE1B-A3B0-4990-A2BC-A4503208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1C2-6874-4BB5-B70F-A895DC50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450-B525-4105-85D3-4D3F8F92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3F7-5BAE-4247-9959-B622E30F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EE83-1740-4A40-B1A8-2C8251696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33320" y="554040"/>
          <a:ext cx="822960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2960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80960" y="469800"/>
          <a:ext cx="849492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9800"/>
                    <a:ext cx="849492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95360"/>
          <a:ext cx="82515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515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27000" y="793800"/>
          <a:ext cx="7747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3800"/>
                    <a:ext cx="7747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11200" y="403200"/>
          <a:ext cx="8136000" cy="72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03200"/>
                    <a:ext cx="8136000" cy="72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73200" y="444600"/>
          <a:ext cx="78120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78120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96800" y="549360"/>
          <a:ext cx="852984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549360"/>
                    <a:ext cx="852984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96800" y="431640"/>
          <a:ext cx="8334360" cy="81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96800" y="431640"/>
          <a:ext cx="8334360" cy="813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3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33320" y="457200"/>
          <a:ext cx="792972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57200"/>
                    <a:ext cx="792972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09760" y="496800"/>
          <a:ext cx="8359560" cy="616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359560" cy="616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09760" y="496800"/>
          <a:ext cx="822960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2296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17680" y="498600"/>
          <a:ext cx="8178480" cy="59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98600"/>
                    <a:ext cx="8178480" cy="59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14440" y="496800"/>
          <a:ext cx="8219880" cy="60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6800"/>
                    <a:ext cx="821988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4520" y="588960"/>
          <a:ext cx="824040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88960"/>
                    <a:ext cx="824040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2040" y="601560"/>
          <a:ext cx="8192880" cy="53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601560"/>
                    <a:ext cx="81928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816120"/>
          <a:ext cx="76564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564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7080" y="685800"/>
          <a:ext cx="7977240" cy="75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685800"/>
                    <a:ext cx="7977240" cy="75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33440" y="480960"/>
          <a:ext cx="8518320" cy="70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80960"/>
                    <a:ext cx="851832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58720" y="482760"/>
          <a:ext cx="815364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482760"/>
                    <a:ext cx="815364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. Alvar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5-03-29T16:14:14Z</cp:lastPrinted>
  <dcterms:modified xsi:type="dcterms:W3CDTF">2011-01-04T18:31:42Z</dcterms:modified>
  <cp:revision>45</cp:revision>
  <dc:subject/>
  <dc:title>Sin título de diapositiva</dc:title>
</cp:coreProperties>
</file>