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6CF-1C12-4AF5-86DF-08CFA73B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0A4-DDAB-40F3-B5EE-EFC44A5E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1DC-0FAF-430C-A820-5CA00EBE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F3D-B39F-4523-923F-519630AD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4D1-002F-4A8A-B10C-38726122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F00-8E78-4D42-9803-85D2EE38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154-0068-4DE6-8F42-3BF5904C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82C-C4A3-4613-BFFF-CAB4CEF9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E62-CEA0-437B-84FF-9B9079AF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3EE-2C37-4B0B-82BD-98D70C3E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818-93A0-4749-AD95-0527353A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242-4560-4183-B452-BD5A4E92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F372-D818-4AA2-98C5-0B77EB326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27000" y="793800"/>
          <a:ext cx="7747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3800"/>
                    <a:ext cx="7747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11200" y="403200"/>
          <a:ext cx="8136000" cy="72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03200"/>
                    <a:ext cx="8136000" cy="72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73200" y="444600"/>
          <a:ext cx="78120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812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6800" y="549360"/>
          <a:ext cx="85298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549360"/>
                    <a:ext cx="85298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6800" y="431640"/>
          <a:ext cx="8334360" cy="81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6800" y="431640"/>
          <a:ext cx="8334360" cy="813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3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09760" y="496800"/>
          <a:ext cx="8359560" cy="616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359560" cy="61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09760" y="496800"/>
          <a:ext cx="822960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2296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17680" y="498600"/>
          <a:ext cx="8178480" cy="59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98600"/>
                    <a:ext cx="8178480" cy="59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14440" y="496800"/>
          <a:ext cx="8219880" cy="60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6800"/>
                    <a:ext cx="82198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58720" y="482760"/>
          <a:ext cx="815364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82760"/>
                    <a:ext cx="81536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3-29T16:14:14Z</cp:lastPrinted>
  <dcterms:modified xsi:type="dcterms:W3CDTF">2011-01-04T18:31:42Z</dcterms:modified>
  <cp:revision>45</cp:revision>
  <dc:subject/>
  <dc:title>Sin título de diapositiva</dc:title>
</cp:coreProperties>
</file>