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404C-2D28-4F92-B7F6-0DA384558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FBCD-4CDF-4728-AB4B-346A74F9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CA52-6835-4774-8397-07313CC46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52FD-C5F1-4D88-8CE3-D774E2CCC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7FF7-5767-4FDC-9D17-39212490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E86C-37A3-444F-B851-2D6AD34F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B9B8-CCDF-471A-8442-EC81A229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8281-6E6E-4717-8544-C60E40C4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3F55-D335-42D7-B58C-D0E60160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E764-D345-4733-ACEE-C77AC033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A7BD-2969-46B3-9C51-54D8F870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D23C-DF5D-491A-BBDF-08A38BF3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F77D-2234-4F68-AFA0-079D111D7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33320" y="554040"/>
          <a:ext cx="8229600" cy="62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554040"/>
                    <a:ext cx="8229600" cy="62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80960" y="469800"/>
          <a:ext cx="8494920" cy="670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69800"/>
                    <a:ext cx="8494920" cy="67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54200" y="495360"/>
          <a:ext cx="825156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95360"/>
                    <a:ext cx="825156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853920" y="531720"/>
          <a:ext cx="7520040" cy="606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520040" cy="606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927000" y="793800"/>
          <a:ext cx="77472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93800"/>
                    <a:ext cx="77472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11200" y="403200"/>
          <a:ext cx="8136000" cy="722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403200"/>
                    <a:ext cx="8136000" cy="722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73200" y="444600"/>
          <a:ext cx="7812000" cy="61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444600"/>
                    <a:ext cx="7812000" cy="61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96800" y="549360"/>
          <a:ext cx="8529840" cy="701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549360"/>
                    <a:ext cx="8529840" cy="70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96800" y="431640"/>
          <a:ext cx="8334360" cy="8124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31640"/>
                    <a:ext cx="8334360" cy="812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96800" y="431640"/>
          <a:ext cx="8334360" cy="813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31640"/>
                    <a:ext cx="8334360" cy="813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754200" y="619200"/>
          <a:ext cx="7893000" cy="640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19200"/>
                    <a:ext cx="7893000" cy="64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33320" y="457200"/>
          <a:ext cx="7929720" cy="567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457200"/>
                    <a:ext cx="7929720" cy="567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792000" y="260280"/>
          <a:ext cx="7545600" cy="63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260280"/>
                    <a:ext cx="754560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112760" y="743040"/>
          <a:ext cx="754704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743040"/>
                    <a:ext cx="754704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050840" y="828720"/>
          <a:ext cx="7508880" cy="53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828720"/>
                    <a:ext cx="7508880" cy="53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915840" y="779400"/>
          <a:ext cx="78552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779400"/>
                    <a:ext cx="78552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828720" y="482760"/>
          <a:ext cx="7893000" cy="67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482760"/>
                    <a:ext cx="7893000" cy="67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509760" y="496800"/>
          <a:ext cx="8359560" cy="616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496800"/>
                    <a:ext cx="8359560" cy="616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09760" y="496800"/>
          <a:ext cx="8229600" cy="607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496800"/>
                    <a:ext cx="822960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517680" y="498600"/>
          <a:ext cx="8178480" cy="594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498600"/>
                    <a:ext cx="8178480" cy="59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514440" y="496800"/>
          <a:ext cx="8219880" cy="607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96800"/>
                    <a:ext cx="8219880" cy="60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88920" y="803160"/>
          <a:ext cx="697716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803160"/>
                    <a:ext cx="697716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14520" y="588960"/>
          <a:ext cx="8240400" cy="549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588960"/>
                    <a:ext cx="8240400" cy="54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62040" y="601560"/>
          <a:ext cx="8192880" cy="536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601560"/>
                    <a:ext cx="8192880" cy="53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14480" y="816120"/>
          <a:ext cx="7656480" cy="53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16120"/>
                    <a:ext cx="765648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57080" y="685800"/>
          <a:ext cx="7977240" cy="756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685800"/>
                    <a:ext cx="7977240" cy="75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33440" y="480960"/>
          <a:ext cx="8518320" cy="70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480960"/>
                    <a:ext cx="8518320" cy="70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58720" y="482760"/>
          <a:ext cx="8153640" cy="66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482760"/>
                    <a:ext cx="8153640" cy="66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alvarez</dc:creator>
  <dc:description/>
  <dc:language>en-US</dc:language>
  <cp:lastModifiedBy>jalvarez</cp:lastModifiedBy>
  <cp:lastPrinted>2005-03-29T16:14:14Z</cp:lastPrinted>
  <dcterms:modified xsi:type="dcterms:W3CDTF">2011-01-04T18:31:42Z</dcterms:modified>
  <cp:revision>45</cp:revision>
  <dc:subject/>
  <dc:title>Sin título de diapositiva</dc:title>
</cp:coreProperties>
</file>