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A3D-0498-483F-A8E4-E1276BB8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28D-62E8-4F4C-A184-8329AE08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536-0C9F-406F-8E43-A0A44C91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98F-98E3-43F3-BA65-126CA34E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757-4D57-4AE6-A53F-7E168BA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7CE-E5B8-42E2-A878-517A0F7D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571-7E03-43AC-9CA3-442C2B7C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15C-53DA-4E51-8512-DA4FA68B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19E-B96D-4D9C-A5B1-3E7D3003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9B0-21E3-4AEE-86B5-3E1D12D3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843-057C-40E2-BBC4-F515F2C8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CE6-C5D8-4B64-9728-BD0692BA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4022-AA59-4A27-AB2A-5467F91A0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Computación: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I: Programación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Compu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 usando los 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341360"/>
            <a:ext cx="80578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1 Arreglos de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2 Arreglos de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3 Búsqueda y orde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Introducción a la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 Evaluación de Polinomios y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 Cálculo de Raíces y Área Bajo la Cur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 Programación en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203480" y="2309760"/>
          <a:ext cx="6440400" cy="38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2309760"/>
                    <a:ext cx="644040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7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93800" y="2041560"/>
          <a:ext cx="7345440" cy="38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041560"/>
                    <a:ext cx="734544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3 tareas (3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57080" y="1986120"/>
          <a:ext cx="7223400" cy="36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986120"/>
                    <a:ext cx="722340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1-01-04T18:27:38Z</dcterms:modified>
  <cp:revision>26</cp:revision>
  <dc:subject/>
  <dc:title>Un curso intensivo de Introducción a la Programación Orientada a Objetos en Java  para estudiantes de secundaria </dc:title>
</cp:coreProperties>
</file>