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D51-1B4B-4002-9252-BAA29068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B41-5AF9-482A-A188-6254261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AC4-2595-4318-BD39-A4D981FD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AE2-6BB8-4658-88A0-260FFAF3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184-65C0-40DB-981D-3B46AC5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452-69B5-4AC5-BACB-BAC3C735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6F5-1EC0-40FA-823D-27861960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868-C41F-4FB6-87FB-BBF15098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DDF-2186-43D9-A320-BF346326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7EC-3D8B-480E-AED0-6D0BA78C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9B3-1C7C-41A7-994E-B23AC32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7D5-AC1A-469C-8748-9B31A45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D796-434E-4DD5-8352-0F5816C1C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Computación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: Programación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 usando los 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80578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1 Arreglos de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2 Arreglos de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3 Búsqueda y orde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Introducción a la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 Evaluación de Polinomios y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 Cálculo de Raíces y Área Bajo la Cur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 Programación en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203480" y="2309760"/>
          <a:ext cx="6440400" cy="38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309760"/>
                    <a:ext cx="644040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7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93800" y="2041560"/>
          <a:ext cx="7345440" cy="38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41560"/>
                    <a:ext cx="73454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3 tareas (3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7080" y="1986120"/>
          <a:ext cx="7223400" cy="36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986120"/>
                    <a:ext cx="722340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8:27:38Z</dcterms:modified>
  <cp:revision>26</cp:revision>
  <dc:subject/>
  <dc:title>Un curso intensivo de Introducción a la Programación Orientada a Objetos en Java  para estudiantes de secundaria </dc:title>
</cp:coreProperties>
</file>