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D34-5A83-4B96-8F00-F815E4FD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979-7526-4E72-A7BD-5414B757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8DB-E518-4B12-9045-D18CAC42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BEA-5A29-4B85-B8AA-65D1C5C5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974-2C2E-4576-835E-C33F824A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44C-EFF7-4010-BB7D-2911D68B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155-87AE-4F66-A11B-FCD51BB3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5AB-6718-4CCF-BC66-583EC6AC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D3D-30EC-4FCB-8689-DF75793D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69D-1F6D-4FC0-8DCA-B676B48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2E6-187E-46EE-9759-4FD4907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CEC-6E27-4261-A4D2-457FAAC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7648-9765-4B5E-8F6E-F9D2790E3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Computación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: Programación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 usando los 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80578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1 Arreglos de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2 Arreglos de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3 Búsqueda y orde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Introducción a la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 Evaluación de Polinomios y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 Cálculo de Raíces y Área Bajo la Cur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 Programación en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203480" y="2309760"/>
          <a:ext cx="6440400" cy="38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309760"/>
                    <a:ext cx="644040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7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93800" y="2041560"/>
          <a:ext cx="7345440" cy="38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41560"/>
                    <a:ext cx="73454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3 tareas (3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7080" y="1986120"/>
          <a:ext cx="7223400" cy="36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986120"/>
                    <a:ext cx="722340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8:27:38Z</dcterms:modified>
  <cp:revision>26</cp:revision>
  <dc:subject/>
  <dc:title>Un curso intensivo de Introducción a la Programación Orientada a Objetos en Java  para estudiantes de secundaria </dc:title>
</cp:coreProperties>
</file>