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3D1D-7E4F-4A28-9589-B1602C9B4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B309-4E73-4FB1-A06F-B492D0020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E92C-D3A0-45B3-A484-F7A555D2F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90AB-11B8-425A-855B-D5FA4976B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1706-822E-47C8-AAE9-681FEFEEE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0478-5F2C-4A91-89AB-F1C85D183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71D9-D625-42A7-BE55-1F1BFEFFB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07CC-B955-4B37-A8CA-81ED087A4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5A82-0AFA-4507-8B78-721341E0F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085F-E8A6-447F-9358-996C51A5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006A-2B8E-46BD-B286-04982C52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C3C2-900A-4DEB-8272-C44E49B4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611D8-38A0-4E78-B652-1903BBECEE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Repaso/resum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ectura/escritura y 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un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lección de instrucciones (if-el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petición de instrucciones (wh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cu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rch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lases y ob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enta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514440" y="495360"/>
          <a:ext cx="8153280" cy="670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440" y="495360"/>
                    <a:ext cx="8153280" cy="670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260280"/>
            <a:ext cx="8686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Funciones Recursi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9280" y="1268280"/>
            <a:ext cx="896472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//factorial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static public int factorial(int x)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if(x==0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return 1; //caso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return x*</a:t>
            </a: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factorial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(x-1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static public int factorial(int x)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if(x==0) return 1; //caso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return x*</a:t>
            </a: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factorial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(x-1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260280"/>
            <a:ext cx="8686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Funciones Recursi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9280" y="1268280"/>
            <a:ext cx="896472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ibonacci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i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i&lt;=2) return i-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ibonacci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-1)+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ibonacci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-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c(x,y)=c(x-1,y)+c(x-1,y-1); c(x,x)=c(x,0)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ombinaciones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,int y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x==y || y==0) return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ombinaciones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-1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+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ombinaciones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-1,y-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24000" y="0"/>
            <a:ext cx="8362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étodos void recurs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765000"/>
            <a:ext cx="889308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static public void misterio(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int n=U.readInt(“nº?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if(n==0) retur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misteri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U.println(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¿Qué hace misterio(); con los sgtes dat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nº?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nº?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nº?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nº?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592200" y="309600"/>
          <a:ext cx="8431200" cy="645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2200" y="309600"/>
                    <a:ext cx="8431200" cy="64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349200" y="484200"/>
          <a:ext cx="8755200" cy="607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0" y="484200"/>
                    <a:ext cx="8755200" cy="607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-316080"/>
            <a:ext cx="868680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333360"/>
            <a:ext cx="8686800" cy="53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obtener una respuesta “si” o “n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String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iOn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ring r=U.readLine(x+” si o no?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.trim().toLowerCas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r.equals(“si”)||r.equals(“no”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iOn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invierte string. Ej:inverso(“roma”)=“am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String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nvers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x.length()==0) return “”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inverso(x.substring(1))+x.charAt(0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capicua: capicua(“reconocer”)=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boolean capicua(String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.equals(inverso(x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57200" y="274680"/>
            <a:ext cx="80755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rchivos de tex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836640"/>
            <a:ext cx="914400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lass CopiarArchivos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String[]args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BR I=new BR(new FR(U.readLine(“input?”)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W O=new PW(new FW(U.readLine(“output?”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nc=0, nl=0; String line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while((linea=I.readLine())!= null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.println(linea); ++nl; nc+=linea.length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.close(); I.close(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U.println(nl+“ líneas “+nc+” caracteres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ota. ¿Sin usar clase 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BR kb=new BR(new InputStreamReader(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System.in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System.out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.print(“input?”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String linea=kb.readLin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990720" y="507960"/>
          <a:ext cx="7683480" cy="622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507960"/>
                    <a:ext cx="7683480" cy="62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11280" y="0"/>
            <a:ext cx="74167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Objeto de clase Frac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39640" y="404640"/>
          <a:ext cx="7917120" cy="6821640"/>
        </p:xfrm>
        <a:graphic>
          <a:graphicData uri="http://schemas.openxmlformats.org/drawingml/2006/table">
            <a:tbl>
              <a:tblPr/>
              <a:tblGrid>
                <a:gridCol w="1100160"/>
                <a:gridCol w="513000"/>
                <a:gridCol w="515880"/>
                <a:gridCol w="1830240"/>
                <a:gridCol w="565200"/>
                <a:gridCol w="2441520"/>
                <a:gridCol w="439920"/>
                <a:gridCol w="5112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todos públic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present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va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truc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accio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ig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cedimien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d m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if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n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o/clase f(…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ado                                               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ul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971640" y="234936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0" y="270828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0" y="2781360"/>
            <a:ext cx="504720" cy="21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572000" y="3573360"/>
            <a:ext cx="504720" cy="719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0" y="4292640"/>
            <a:ext cx="50472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16000" y="414972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59500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643280" y="3789360"/>
            <a:ext cx="649440" cy="18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642920" y="5300640"/>
            <a:ext cx="576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0" y="6237360"/>
            <a:ext cx="41767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19280" y="1413000"/>
            <a:ext cx="648180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47640" y="1413000"/>
            <a:ext cx="0" cy="518472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47640" y="6597720"/>
            <a:ext cx="655344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8101080" y="1341000"/>
            <a:ext cx="0" cy="525636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95360" y="581040"/>
          <a:ext cx="8210520" cy="629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581040"/>
                    <a:ext cx="8210520" cy="62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565200" y="390600"/>
          <a:ext cx="801360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200" y="390600"/>
                    <a:ext cx="80136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484200" y="496800"/>
          <a:ext cx="8350200" cy="649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496800"/>
                    <a:ext cx="8350200" cy="649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Uso de objetos de una cl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125360"/>
            <a:ext cx="821844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Fracción más lejana (del promedio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 f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U.readLine(“nº/nº?”)), s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0)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min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), max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), cero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n=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while(!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cero)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s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sumar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); ++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f(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max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&gt;0) max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asigna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f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f(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min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&lt;0) min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asigna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f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asignar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U.readLine(“nº/nº?”)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s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dividi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new F(n)); //promed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if(max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rest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s)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compareT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s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rest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min))&gt;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U.print(“mas lejana=“+max.toString()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U.print(“mas lejana=“+min.toString()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430200" y="469800"/>
          <a:ext cx="8942400" cy="672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0200" y="469800"/>
                    <a:ext cx="8942400" cy="672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523800" y="568440"/>
          <a:ext cx="7989840" cy="6781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568440"/>
                    <a:ext cx="7989840" cy="678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484200" y="390600"/>
          <a:ext cx="8269200" cy="645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390600"/>
                    <a:ext cx="8269200" cy="64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469800" y="523800"/>
          <a:ext cx="8069400" cy="559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523800"/>
                    <a:ext cx="8069400" cy="559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593640" y="557280"/>
          <a:ext cx="8448840" cy="5960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557280"/>
                    <a:ext cx="8448840" cy="59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847800" y="538200"/>
          <a:ext cx="8080200" cy="5916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47800" y="538200"/>
                    <a:ext cx="8080200" cy="59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318960" y="380880"/>
          <a:ext cx="8718840" cy="676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380880"/>
                    <a:ext cx="8718840" cy="676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403200" y="363600"/>
          <a:ext cx="8578800" cy="646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363600"/>
                    <a:ext cx="8578800" cy="64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%: operador de resto de div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1125360"/>
            <a:ext cx="896472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invertir entero de 3 díg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n=U.readInt(“Nº 3 dígitos?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d1=n/100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3=n%1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d2=n%100/10;//int d2=n/10%1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inverso=”+d3+d2+d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//cajero automá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int d=U.readInt(“¿Cuánto dinero necesita?”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U.println(d/20000+”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de $20.000”);d=d%2000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,println(d/10000+” de $10.000”);d=d%1000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d/5000+” de $5.000”);d=d%500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d/2000+” de $2.000”);d=d%200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d/1000+” de $1.000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403200" y="336600"/>
          <a:ext cx="8620200" cy="673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336600"/>
                    <a:ext cx="8620200" cy="673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274680"/>
            <a:ext cx="8002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gramas lineales con ejecución de funciones predefin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41360" y="1003320"/>
          <a:ext cx="8566200" cy="618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360" y="1003320"/>
                    <a:ext cx="8566200" cy="61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68360" y="274680"/>
            <a:ext cx="821844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gramas lineales con ejecución de funciones definidas por el program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1341360"/>
            <a:ext cx="867564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urier New"/>
              </a:rPr>
              <a:t>//seleccionar mayor entre dos fech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s-ES" sz="16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(String[]args)throws IOException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t f1=U.readInt(“fecha1(ddmmaaaa)?”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f2=U.readInt(“fecha2(ddmmaaaa)?”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U.println(“mayor=“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ddmmaaaa(Math.max(aaaammdd(f1),aaaammdd(f2)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urier New"/>
              </a:rPr>
              <a:t>//convertir fecha ddmmaaaa a la forma aaaamm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aaaammdd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t dd=x/1000000, mm=x/10000%100, aaaa=x%1000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return aaaa*10000 + mm*100 + d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urier New"/>
              </a:rPr>
              <a:t>//convertir fecha aaaammdd a la forma ddmm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ddmmaaaa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t dd=x%100, mm=x%10000/100, aaaa=x/1000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return dd*1000000 + mm*10000 + aaa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Selección instrucciones (if-el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268280"/>
            <a:ext cx="914400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diasMes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m,int a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m==1||m==3||m==5||m==7||m==8||m==10||m==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3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se 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m==4||m==6||m==9||m==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3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if(m==2)//if(cond simple) sin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bisiesto(a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29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28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0;//mes incorr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bisiest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%4==0 &amp;&amp; x%100!=0 || x%400==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50920" y="274680"/>
            <a:ext cx="8497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epetición instrucciones (whi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765000"/>
            <a:ext cx="842472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//tabla celsius - fahrenhe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t g=-2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(g&lt;=40)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U.println(g+”ºC=“+(9.0/5.0*g+32)+”ºF”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g=g+5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static public double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potencia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(double x,int y)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f(y==0 &amp;&amp; x==0) U.abortar(“0^0 indefinido”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double producto=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t i=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(i&lt;=Math.abs(y)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producto=producto*x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=i+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f(y&gt;=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return producto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return 1/product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79280" y="274680"/>
            <a:ext cx="878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trones para proceso de l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1413000"/>
            <a:ext cx="864072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ïnicializar             //inicializ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mayor=0;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int mayor=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leer 1º                 //repetir siemp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n=U.readInt(“nº?”);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while(true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repetir mientras          //le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n!=0){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int n=U.readInt(“nº?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procesar                //condición de térmi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n&gt;mayor) mayor=n;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if(n==0)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leer sgte               //proces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n=U.readInt(“nº?”);       mayor=Math.max(mayor,n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                        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finalizar                //finalizar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mayor=“+mayor); U.println(“mayor=“+mayor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514440" y="495360"/>
          <a:ext cx="8143920" cy="674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440" y="495360"/>
                    <a:ext cx="8143920" cy="67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3:28:50Z</dcterms:created>
  <dc:creator>jalvarez</dc:creator>
  <dc:description/>
  <dc:language>en-US</dc:language>
  <cp:lastModifiedBy>jalvarez</cp:lastModifiedBy>
  <cp:lastPrinted>2006-04-13T19:29:55Z</cp:lastPrinted>
  <dcterms:modified xsi:type="dcterms:W3CDTF">2011-01-04T14:18:17Z</dcterms:modified>
  <cp:revision>45</cp:revision>
  <dc:subject/>
  <dc:title>Sin título de diapositiva</dc:title>
</cp:coreProperties>
</file>