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5AA-F45C-4283-A128-E7765135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4CE-927F-4BA8-8507-5666E381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8A9-F557-4746-B6B4-E4DE724E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E91-89F0-4C26-BABB-8EB70784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F8B-4D8F-40D9-AB35-D23D096B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30F-AC95-402E-BA69-337D6B24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A51-8687-43B9-9CD3-AB780BE3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097-D730-4651-B964-B0EAE7AD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F57-0530-4F25-BE4E-562CFD2A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109-1D72-4394-B148-951B9AA0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F33-62C8-4F55-A9B0-87636D64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EF7-2585-442C-A99A-1C6E4734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B955-A16B-447A-8707-40FD74901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petición de instrucciones (w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815328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532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//factorial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1; //cas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</a:t>
            </a: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(x-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return 1; //cas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</a:t>
            </a: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(x-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misterio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n==0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; con los sgtes da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r.equals(“si”)||r.equals(“no”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R kb=new BR(new InputStreamReader(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tring linea=kb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95360" y="581040"/>
          <a:ext cx="8210520" cy="62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81040"/>
                    <a:ext cx="8210520" cy="62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125360"/>
            <a:ext cx="8218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if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(“mas lejana=“+max.toString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(“mas lejana=“+min.toString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23800" y="568440"/>
          <a:ext cx="798984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8440"/>
                    <a:ext cx="79898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18960" y="380880"/>
          <a:ext cx="8718840" cy="676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80880"/>
                    <a:ext cx="8718840" cy="676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lineales con ejecución de funciones predefi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lineales con ejecución de funciones definidas por el program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341360"/>
            <a:ext cx="86756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seleccionar mayor entre dos fe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2=U.readInt(“fecha2(ddmmaaaa)?”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mayor=“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dmmaaaa(Math.max(aaaammdd(f1),aaaammdd(f2)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ddmmaaaa a la forma aaaamm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/1000000, mm=x/10000%100, aaaa=x%10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aaaa*10000 + mm*100 + d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aaaammdd a la forma ddmm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%100, mm=x%10000/100, aaaa=x/10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dd*1000000 + mm*10000 + aaa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roducto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roducto=producto*x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&gt;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product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1/produc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trones para proceso de 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mientras          //le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14440" y="495360"/>
          <a:ext cx="8143920" cy="67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4392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01-04T14:18:17Z</dcterms:modified>
  <cp:revision>45</cp:revision>
  <dc:subject/>
  <dc:title>Sin título de diapositiva</dc:title>
</cp:coreProperties>
</file>