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8DC6-6F14-404F-AEE0-5C1A564A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4F7-119E-4554-876E-79841C40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9808-A7B7-4763-9687-B02AA307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926-156E-4F44-8D76-E5387FCF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9808-059F-4746-8633-02D2DD22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C77-33FA-43AE-8DB8-992BD8B2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5DD0-ABDC-43A8-81DC-C2C76903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6A8C-9E6D-4D35-8698-91973B2A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BE0-AB1A-4761-8643-34583745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B80E-8F39-4398-9F76-D2AEC4F0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DB5D-C900-4F21-94C8-E634A6A2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45C-FFC1-4EE4-87E1-DAE358E2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202E-AB02-472E-996F-545AABA03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ectura/escritura y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ón de instrucciones (if-e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petición de instrucciones (w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14440" y="495360"/>
          <a:ext cx="815328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5328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60280"/>
            <a:ext cx="868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//factorial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static public int factorial(int x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if(x==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1; //cas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x*</a:t>
            </a: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(x-1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static public int factorial(int x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if(x==0) return 1; //cas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x*</a:t>
            </a: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(x-1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60280"/>
            <a:ext cx="868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&lt;=2) return i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(x,y)=c(x-1,y)+c(x-1,y-1); c(x,x)=c(x,0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==y || y==0) return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-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étodos void recurs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misterio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t n=U.readInt(“nº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n==0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misteri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hace misterio(); con los sgtes da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92200" y="309600"/>
          <a:ext cx="8431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309600"/>
                    <a:ext cx="8431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49200" y="484200"/>
          <a:ext cx="8755200" cy="60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84200"/>
                    <a:ext cx="87552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333360"/>
            <a:ext cx="86868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r.equals(“si”)||r.equals(“no”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ierte string. Ej:inverso(“roma”)=“a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.length()==0) return “”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.substring(1))+x.charAt(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apicua: capicua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capicua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.equals(inverso(x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075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de tex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opiarArchivos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R I=new BR(new FR(U.readLine(“input?”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W O=new PW(new FW(U.readLine(“output?”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c=0, nl=0; String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 ++nl; nc+=linea.lengt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ta. ¿Sin usar clas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BR kb=new BR(new InputStreamReader(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.print(“input?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tring linea=kb.readLin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990720" y="507960"/>
          <a:ext cx="7683480" cy="622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07960"/>
                    <a:ext cx="768348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11280" y="0"/>
            <a:ext cx="741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Objeto de clase F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9640" y="404640"/>
          <a:ext cx="7917120" cy="6821640"/>
        </p:xfrm>
        <a:graphic>
          <a:graphicData uri="http://schemas.openxmlformats.org/drawingml/2006/table">
            <a:tbl>
              <a:tblPr/>
              <a:tblGrid>
                <a:gridCol w="1100160"/>
                <a:gridCol w="513000"/>
                <a:gridCol w="515880"/>
                <a:gridCol w="1830240"/>
                <a:gridCol w="565200"/>
                <a:gridCol w="2441520"/>
                <a:gridCol w="439920"/>
                <a:gridCol w="511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cio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i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d m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/clase f(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971640" y="234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2708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2781360"/>
            <a:ext cx="5047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572000" y="357336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429264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4149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643280" y="378936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642920" y="530064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6237360"/>
            <a:ext cx="417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1413000"/>
            <a:ext cx="64818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1413000"/>
            <a:ext cx="0" cy="5184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6597720"/>
            <a:ext cx="65534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8101080" y="1341000"/>
            <a:ext cx="0" cy="5256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95360" y="581040"/>
          <a:ext cx="8210520" cy="62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581040"/>
                    <a:ext cx="8210520" cy="62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565200" y="390600"/>
          <a:ext cx="80136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390600"/>
                    <a:ext cx="801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484200" y="496800"/>
          <a:ext cx="8350200" cy="649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96800"/>
                    <a:ext cx="8350200" cy="649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125360"/>
            <a:ext cx="82184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0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if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(“mas lejana=“+max.toString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(“mas lejana=“+min.toString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30200" y="469800"/>
          <a:ext cx="894240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69800"/>
                    <a:ext cx="894240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523800" y="568440"/>
          <a:ext cx="7989840" cy="67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68440"/>
                    <a:ext cx="798984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84200" y="390600"/>
          <a:ext cx="8269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390600"/>
                    <a:ext cx="8269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69800" y="523800"/>
          <a:ext cx="8069400" cy="55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23800"/>
                    <a:ext cx="806940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847800" y="538200"/>
          <a:ext cx="8080200" cy="591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7800" y="538200"/>
                    <a:ext cx="808020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18960" y="380880"/>
          <a:ext cx="8718840" cy="676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380880"/>
                    <a:ext cx="8718840" cy="676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03200" y="363600"/>
          <a:ext cx="8578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63600"/>
                    <a:ext cx="8578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%: operador de resto de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ertir entero de 3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U.readInt(“Nº 3 dígitos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d1=n/100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d2=n%100/10;//int d2=n/10%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inverso=”+d3+d2+d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cajero auto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nt d=U.readInt(“¿Cuánto dinero necesita?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U.println(d/20000+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e $20.000”);d=d%20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,println(d/10000+” de $10.000”);d=d%10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5000+” de $5.000”);d=d%5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2000+” de $2.000”);d=d%2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1000+” de $1.00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03200" y="336600"/>
          <a:ext cx="8620200" cy="673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36600"/>
                    <a:ext cx="8620200" cy="67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gramas lineales con ejecución de funciones predefin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1360" y="1003320"/>
          <a:ext cx="85662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1003320"/>
                    <a:ext cx="85662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gramas lineales con ejecución de funciones definidas por el program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341360"/>
            <a:ext cx="86756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seleccionar mayor entre dos fec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f1=U.readInt(“fecha1(ddmmaaaa)?”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f2=U.readInt(“fecha2(ddmmaaaa)?”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mayor=“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dmmaaaa(Math.max(aaaammdd(f1),aaaammdd(f2)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convertir fecha ddmmaaaa a la forma aaaamm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d=x/1000000, mm=x/10000%100, aaaa=x%100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aaaa*10000 + mm*100 + d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convertir fecha aaaammdd a la forma ddmm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ddmmaaa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d=x%100, mm=x%10000/100, aaaa=x/100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dd*1000000 + mm*10000 + aaa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elección instrucciones (if-el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m,int a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1||m==3||m==5||m==7||m==8||m==10||m==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4||m==6||m==9||m==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f(m==2)//if(cond simple) sin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bisiesto(a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9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0;//mes incor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petición instrucciones (wh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765000"/>
            <a:ext cx="8424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tabla celsius - fahrenh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g=-2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g&lt;=40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g+”ºC=“+(9.0/5.0*g+32)+”ºF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g=g+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(double x,int y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f(y==0 &amp;&amp; x==0) U.abortar(“0^0 indefinido”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producto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i=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&lt;=Math.abs(y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producto=producto*x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f(y&gt;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product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1/produc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trones para proceso de 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ïnicializar             //inicial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mayor=0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int mayor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1º                 //repetir siemp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mientras          //le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n!=0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nt n=U.readInt(“nº?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rocesar                //condición de tér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n&gt;mayor) mayor=n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f(n==0)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sgte               //proce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U.readInt(“nº?”);       mayor=Math.max(mayor,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                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finalizar                //finalizar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mayor=“+mayor); U.println(“mayor=“+mayo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14440" y="495360"/>
          <a:ext cx="8143920" cy="67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43920" cy="67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11-01-04T14:18:17Z</dcterms:modified>
  <cp:revision>45</cp:revision>
  <dc:subject/>
  <dc:title>Sin título de diapositiva</dc:title>
</cp:coreProperties>
</file>