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B10-A819-4612-961F-32F94FC5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3EE-61A0-448F-8788-0DD777DC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F5F-2F5A-44A5-8E37-6B886050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696-6A72-4573-9C76-9CB5A3B5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A7E-AFB1-4608-9285-97909FE4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DCE-8967-4AF5-BE57-E9378D2D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8EA-0A8A-4003-AD7E-35267B6D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9C6-A240-4291-A7F5-6733581B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6E8-4A11-4D58-90E0-34B057F1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BA8-547D-4D4F-961C-1FEB6C79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91C-09BA-4FC9-927A-7EBB10FA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BFEB-D2A5-40FB-832E-4A25593B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57D8-1FCE-46E6-85B1-0BE76062C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petición de instrucciones (while) y 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14440" y="495360"/>
          <a:ext cx="796284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796284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42880" y="476280"/>
          <a:ext cx="795348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476280"/>
                    <a:ext cx="795348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Recur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ef digitos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abs(x)&lt;1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 #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+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igitos(x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nºs de Fibonacci: 0,1,1,2,3,5,8,1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i&lt;=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cedimientos (no devuelven resultado) recur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misterio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=input(“nº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 n==0: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 con los sgtes da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99960" y="257040"/>
          <a:ext cx="8258400" cy="6258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257040"/>
                    <a:ext cx="8258400" cy="625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8900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x==“”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[1:])+x[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capicua: capicua(“reconocer”)=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capicua(x): return x==invers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determinar si una frase es capicú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rase=raw_input(“frase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rase=frase.replace(“ “,””).low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capicua(fras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capicu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no es capicu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326880"/>
            <a:ext cx="87138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bar líneas con información cor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brir archivos de lectura y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open(“notas.txt”,”r”)  #para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open(“notas1.txt”,”w”) #para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er todas las li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si nombre es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linea[0:20].replace(“ “,””).isalpha()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nd linea[20:22].replace(“ “,””).isdig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grabar en arch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write(lin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err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916560"/>
            <a:ext cx="878544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promedio de notas y % de aprob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=alumnos=aprobados=0 #asignación “múlti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 #2º parámetro “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lumnos += 1 #alumnos=alumnos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 #conversión a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 +=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=40: aprobados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promedio”,suma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% aprobados=“, 100.0*aprobados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460800"/>
            <a:ext cx="82789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obtener nombre y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mbre=linea[0:2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mantener 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lif nota==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 += “\n” + 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mejores alumnos:\n”+mej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7080" y="124200"/>
            <a:ext cx="6581520" cy="58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logo del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1(HH:MM)?XX:XX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2(HH:MM)?XX: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erenci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stante1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“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stante2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“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Sum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+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   #T1.__add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Diferenci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-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#T1.__sub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 &gt; 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:                #T1.__gt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    #T1.__st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380880"/>
          <a:ext cx="8448840" cy="653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448840" cy="65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19040" y="343080"/>
          <a:ext cx="8410680" cy="62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10680" cy="62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19040" y="343080"/>
          <a:ext cx="8439120" cy="62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39120" cy="62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19040" y="343080"/>
          <a:ext cx="8429760" cy="67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29760" cy="67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19040" y="343080"/>
          <a:ext cx="8391600" cy="6771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040" y="343080"/>
                    <a:ext cx="8391600" cy="67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419040" y="343080"/>
          <a:ext cx="8543880" cy="66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543880" cy="66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19040" y="371520"/>
          <a:ext cx="849636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71520"/>
                    <a:ext cx="849636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“Nº 3 dígitos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1=n/100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2=n%100/10 #d2=n/10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“inverso=”,100*d3+10*d2+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=input(“¿Cuánto dinero necesita?”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d/20000,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 $20.000”; d=d%2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0,”de $10.000”; d=d%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5000,”de $5.000”); d=d%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2000,”de $2.000”); d=d%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,”de $1.000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pre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5760" y="1009800"/>
          <a:ext cx="8393040" cy="60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1009800"/>
                    <a:ext cx="839304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definidas por el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ddmmaaaa a la forma aaaamm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/1000000; mm=x/10000%100; aaaa=x%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aaaa*10000 + mm*100 + 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aaaammdd a la forma ddmm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%100; mm=x%10000/100; aaaa=x/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dd*1000000 + mm*10000 + 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seleccionar mayor entre dos fe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1=input(“fecha1(ddmmaaaa)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2=input(“fecha2(ddmmaaaa)?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ddmmaaaa(max(aaaammdd(f1),aaaammdd(f2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cción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836640"/>
            <a:ext cx="8640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olver ecuación axx+bx+c=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input(“a?”); b=input(“b?”); c=input(“c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ultado: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 and b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indefini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”x=“,-b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**2-4*a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-b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math.sqrt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(-b+raiz)/(2*a),(-b-raiz)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aices complej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cción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0920" y="765000"/>
            <a:ext cx="810108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chipu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not ok(x) or not ok(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err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x==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empat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x==“piedra” and y==“tijeras”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papel” and y====“piedra”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tijeras” and y==“papel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gana primer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gana segun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 #devuelve True o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==“piedra”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papel” 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tijer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strucción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748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celsius - fahr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&lt;=4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,”ºC=“,9.0/5.0*g+32,”º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g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grados – funcion s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&lt;=36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dianes=math.pi*grados/1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rados,radianes,math.sin(radia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grados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trones (esquemas) para proces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inicializar             #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yor=0;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1º                 #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repetir mientras          #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n!=0: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n=input(“nº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procesar                #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 n&gt;mayor: mayor=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if n==0: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sgte              #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           mayor=max(mayor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finalizar               #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mayor      print “mayor=“,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11-01-24T13:31:20Z</dcterms:modified>
  <cp:revision>83</cp:revision>
  <dc:subject/>
  <dc:title>Diapositiva 1</dc:title>
</cp:coreProperties>
</file>