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B5D-85AC-4F27-BCD9-61E2804B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F4E-6C8F-4E8C-A263-57B91869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4FF-C568-4C7D-B155-E0337050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06D-5DDC-49EF-B409-41018BB3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F89-42A1-4804-82F9-BC06CD94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54F-6C7B-4422-8531-7231D8C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244-98D2-4E3D-A0BB-4D095D50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2B2-FE05-4190-8447-6BCB1123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AD4-DD8F-4EDB-906E-79E7D975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CCF-5DD0-4B87-B88F-52EEFB1E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591-AFED-4366-957D-2E1A8005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C49-D333-46DD-9DD8-0670E243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B365-7EE3-4FEE-9FAC-E318C38C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 y 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796284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796284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abs(x)&lt;1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+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nºs de Fibonacci: 0,1,1,2,3,5,8,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i&lt;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9960" y="257040"/>
          <a:ext cx="8258400" cy="625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5840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8900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==“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capicua: capicua(“reconocer”)=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raw_input(“fras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frase.replace(“ “,””).lo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326880"/>
            <a:ext cx="8713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4884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4884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9040" y="343080"/>
          <a:ext cx="841068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9040" y="343080"/>
          <a:ext cx="8391600" cy="677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343080"/>
                    <a:ext cx="8391600" cy="67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19040" y="343080"/>
          <a:ext cx="8543880" cy="66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5760" y="1009800"/>
          <a:ext cx="839304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009800"/>
                    <a:ext cx="839304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ddmmaaaa(max(aaaammdd(f1),aaaammdd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836640"/>
            <a:ext cx="86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b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765000"/>
            <a:ext cx="810108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chipu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not ok(x) or not ok(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mpat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“piedra” and y==“tijeras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and y==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 and y==“pape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prim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segu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 #devuelve True 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1-01-24T13:31:20Z</dcterms:modified>
  <cp:revision>83</cp:revision>
  <dc:subject/>
  <dc:title>Diapositiva 1</dc:title>
</cp:coreProperties>
</file>