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FE5-0A33-4C3B-B4E9-8D4B6539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37A-EBA3-42CB-B179-3DC7F10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021-60CA-47E1-AC0E-A2590A23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78F-57C6-42CD-B193-44FB3D81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C96-C50A-493F-AF37-125B051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176-1AAA-4E5B-BC3B-5DA972CA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26C-4E48-498B-B225-F461818D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936-D822-4764-98D7-F1CBA28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648-95E7-419C-99F9-230D145B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A2E-8A52-47D3-ABA2-EAA524C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9DF-BA4C-4D32-871F-1A6C74D4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997-59A1-4935-BAA8-E39BC98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509F-E8A1-408B-BE57-3F6CB3C6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 y 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796284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796284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abs(x)&lt;1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+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nºs de Fibonacci: 0,1,1,2,3,5,8,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i&lt;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9960" y="257040"/>
          <a:ext cx="8258400" cy="62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5840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==“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capicua: capicua(“reconocer”)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raw_input(“fras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frase.replace(“ “,””).lo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26880"/>
            <a:ext cx="8713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4884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4884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9040" y="343080"/>
          <a:ext cx="841068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343080"/>
          <a:ext cx="8391600" cy="67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343080"/>
                    <a:ext cx="8391600" cy="67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5760" y="1009800"/>
          <a:ext cx="839304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09800"/>
                    <a:ext cx="8393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1010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chipu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not ok(x) or not ok(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mpa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“piedra” and y==“tijeras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and y==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 and y==“pap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prim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seg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 #devuelve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1-24T13:31:20Z</dcterms:modified>
  <cp:revision>83</cp:revision>
  <dc:subject/>
  <dc:title>Diapositiva 1</dc:title>
</cp:coreProperties>
</file>