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20B2-1EBB-4D29-9B27-C8392F75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E0A5-4575-4C3C-99C3-B9A37D26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1CB9-A7E7-4F0E-8108-BD90516A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FAB7-66B6-4B4B-868A-0EBD116D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5955-279E-46CA-9553-69267778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46AB-0BBC-48D3-8B28-ED7061B0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FBD7-22C0-4621-A080-6EB84888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7834-753C-4139-BC04-981CBB36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BF3B-4A1C-4D02-86BC-76896D80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27BD-8DE3-426E-A232-9DB7C8F8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AC04-E399-4C09-893A-5B9E6868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27A6-5643-404C-9AFB-91932830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B151-942C-4C71-893A-F6705BC07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01640" y="534960"/>
          <a:ext cx="7610400" cy="56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534960"/>
                    <a:ext cx="7610400" cy="56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404640"/>
            <a:ext cx="8496000" cy="61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=raw_input(“circulo,cuadrado,rectangulo o ” + \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triangulo?").lower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 r=="circ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Circulo(input("radi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cuadrad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Cuadrado(input("lad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rectang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Rectangulo(input("largo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anch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triang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Triangulo(input("lado1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lado2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lado3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xit("figura incorrecta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print "area=",f.area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print "perimetro=",f.perimetro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-10800"/>
            <a:ext cx="896472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ncia “transitiva” (“sucesiva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(A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hereda de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__init__(self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b=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(B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hereda de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,z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=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=C(1,2,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.f()+c.g()+c.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1197000"/>
            <a:ext cx="115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2349360"/>
            <a:ext cx="1081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59640" y="3429000"/>
            <a:ext cx="115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164360" y="1699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236000" y="285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80" y="79560"/>
            <a:ext cx="8964720" cy="64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ncia “múltipl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  #un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b=x  #un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(A,B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 hereda de clases A y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,z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=z  #tres variables pq a y b se hered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=C(1,2,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.f()+c.g()+c.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51640" y="476280"/>
            <a:ext cx="1008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64360" y="476280"/>
            <a:ext cx="936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16720" y="1628640"/>
            <a:ext cx="863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6300720" y="98064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093080" y="98064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96720" y="480960"/>
          <a:ext cx="850752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480960"/>
                    <a:ext cx="850752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91520"/>
            <a:ext cx="8893080" cy="61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lución 1. Con clases independ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sf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"radio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r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*math.pi*self.r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.0/3.0*math.pi*self.r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exit("lado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6*self.a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a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8000" y="205560"/>
            <a:ext cx="8893080" cy="58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lución 2. Con H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er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“nº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sfera(Cuerp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*math.pi*self.x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.0/3.0*math.pi*self.x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bo(Cuerp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6*self.x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x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112536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so de arch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vención: cada clase en un archivo con nombre de la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Cuerpo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mport mat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Cuer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__init__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x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elf.x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26028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Esfera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rom Cuerpo import Cuer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#desde archivo importe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Esfera(Cuerp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area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4*math.pi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volumen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4.0/3.0*math.px*self.x**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Cubo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rom Cuerpo import Cuer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Cubo(Cuerp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area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6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volumen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self.x**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75400" y="663120"/>
            <a:ext cx="859320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rchivo nombr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Esfera import E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Cubo import Cu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=raw_input(“esfera o cubo?”).lower()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=="esfera"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erpo=Esfera(input("radio?"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if r=="cubo"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erpo=Cubo(input("lado?"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"erro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area=",cuerpo.area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volumen=",cuerpo.perimetro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24000" y="406440"/>
          <a:ext cx="8635680" cy="67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6440"/>
                    <a:ext cx="8635680" cy="67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80960" y="480960"/>
          <a:ext cx="805356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80960"/>
                    <a:ext cx="805356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71600" y="480960"/>
          <a:ext cx="8367480" cy="686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80960"/>
                    <a:ext cx="836748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98600" y="442800"/>
          <a:ext cx="7711920" cy="62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442800"/>
                    <a:ext cx="7711920" cy="62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8900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ircu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,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x&lt;=0: exit("radio&lt;=0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lf.r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2*math.pi*self.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math.pi*self.r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adr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,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x&lt;=0: exit(“lado&lt;=0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lf.a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4*self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lf): return self.a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Constructores son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53712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. Con H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 #constructor ú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x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=x #significado de x depende de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math.pi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2*math.pi*self.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4*self.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830880"/>
            <a:ext cx="88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Rectangulo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,x,y):   #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.__init__(self,x) #ctor clase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y=y  #an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y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x*self.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2*(self.x+self.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Rectangulo(nº,n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Otras figur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260280"/>
            <a:ext cx="8964720" cy="64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class Triangulo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,x,y,z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=0 or y&lt;=0 or z&lt;=0 \ #continu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or x+y&lt;=z or x+z&lt;=y or y+z&lt;=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xit("no forman triangulo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elf.x=x; self.y=y; self.z=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self.x+self.y+self.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=(self.x+self.y+self.z)/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return math.sqrt(s*(s-self.x)*(s-self.y)*(s-self.z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t=Triangulo(nº,nº,n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11-01-21T13:25:18Z</dcterms:modified>
  <cp:revision>71</cp:revision>
  <dc:subject/>
  <dc:title>Sin título de diapositiva</dc:title>
</cp:coreProperties>
</file>