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24D-95F8-40C6-800C-486D9286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555-2921-4A5B-843B-5B528804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20C-75BC-446A-8DA1-1A0F498F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7FF-0FFF-493A-A318-971DA0B7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265-E441-416E-BF87-2C48D7ED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CAD-0B2E-470B-8D8B-B18074E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A92-3EBC-4254-A5D3-D0034211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02C-E959-40C5-A792-77CC905F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957-5C19-4E0D-A9D6-618CDDED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68A-2D35-4ADC-A988-CD19DDA2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5F3-49B0-4508-BBEF-47A859A5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3FD-B12B-40FC-99C2-1AA9DFD0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BF7F-CFC2-4818-B77D-CB0E1A1B8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480960"/>
          <a:ext cx="818352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8352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17600" y="338040"/>
          <a:ext cx="851364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136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17600" y="338040"/>
          <a:ext cx="84247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4247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14360" y="334800"/>
          <a:ext cx="844848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34800"/>
                    <a:ext cx="844848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93600" y="657360"/>
          <a:ext cx="7174080" cy="55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657360"/>
                    <a:ext cx="717408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90600" y="407880"/>
          <a:ext cx="85676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7880"/>
                    <a:ext cx="85676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18960" y="328680"/>
          <a:ext cx="869184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28680"/>
                    <a:ext cx="86918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407880"/>
          <a:ext cx="8372520" cy="60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7880"/>
                    <a:ext cx="837252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331920"/>
          <a:ext cx="784044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1920"/>
                    <a:ext cx="784044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1920" y="415800"/>
          <a:ext cx="83692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692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54200" y="620640"/>
          <a:ext cx="7821360" cy="67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20640"/>
                    <a:ext cx="782136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689040"/>
          <a:ext cx="75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89040"/>
                    <a:ext cx="75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17600" y="338040"/>
          <a:ext cx="852156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215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01640" y="360360"/>
          <a:ext cx="775800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7758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98840"/>
            <a:ext cx="8280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Que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compara dos objetos (fracciones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uelve un bool (True o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mayorQue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primer operando: self (componentes: self.a, self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segundo operando: x (componentes: x.a, x.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suma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suma do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suma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 nuevo objeto con la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: referencia a nuevo objeto de clase F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31920" y="415800"/>
          <a:ext cx="835956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5956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11-01-19T13:22:05Z</dcterms:modified>
  <cp:revision>99</cp:revision>
  <dc:subject/>
  <dc:title>Sin título de diapositiva</dc:title>
</cp:coreProperties>
</file>