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FAE-4F0A-48A0-806C-90989E9F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E5A-E067-473F-AC14-E36DBFDE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91A-E1F4-4BCA-8D30-68A7271A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AA9-D104-421D-BD0A-DFDFC1EB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59E-C84B-42C6-9132-C6663976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8B0-1C97-4D7D-9872-0802160B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9DE-A049-42CF-AE18-C944D92E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314-34CF-4915-A370-8D2372EC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E62-5073-41C4-AF9E-6DFA5DDC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6FE-BE04-47BB-AB44-E3FB799E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86C-8125-47D8-B176-9264D04C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9FA-957E-485F-BAF3-01F2F845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B18B-67A8-4FE3-8816-6AB56A0C4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480960"/>
          <a:ext cx="818352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8352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17600" y="338040"/>
          <a:ext cx="851364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136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17600" y="338040"/>
          <a:ext cx="84247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4247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14360" y="334800"/>
          <a:ext cx="844848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34800"/>
                    <a:ext cx="844848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93600" y="657360"/>
          <a:ext cx="7174080" cy="55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657360"/>
                    <a:ext cx="717408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90600" y="407880"/>
          <a:ext cx="85676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7880"/>
                    <a:ext cx="85676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18960" y="328680"/>
          <a:ext cx="869184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28680"/>
                    <a:ext cx="86918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407880"/>
          <a:ext cx="8372520" cy="60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7880"/>
                    <a:ext cx="837252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331920"/>
          <a:ext cx="784044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1920"/>
                    <a:ext cx="784044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1920" y="415800"/>
          <a:ext cx="83692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692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54200" y="620640"/>
          <a:ext cx="7821360" cy="67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20640"/>
                    <a:ext cx="782136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689040"/>
          <a:ext cx="75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89040"/>
                    <a:ext cx="75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17600" y="338040"/>
          <a:ext cx="852156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215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01640" y="360360"/>
          <a:ext cx="775800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7758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98840"/>
            <a:ext cx="8280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Que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compara dos objetos (fracciones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uelve un bool (True o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mayorQue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primer operando: self (componentes: self.a, self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segundo operando: x (componentes: x.a, x.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suma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suma do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suma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 nuevo objeto con la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: referencia a nuevo objeto de clase F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31920" y="415800"/>
          <a:ext cx="835956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5956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11-01-19T13:22:05Z</dcterms:modified>
  <cp:revision>99</cp:revision>
  <dc:subject/>
  <dc:title>Sin título de diapositiva</dc:title>
</cp:coreProperties>
</file>