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274-AE1C-4CF6-99C0-85A792EF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E81-49B5-4C1A-8DB7-F7765BE0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7F2-72FC-4605-980B-AD71C88A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CBB-F95C-43D8-AC73-95E1B894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0D0-49DF-4BAB-8246-E53586BD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0887-2C30-4FE8-97D5-48DFC5E2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902-18F8-4D42-88A4-634EC435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04C6-4F67-4437-85D8-C0A46376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5DF-04DE-4787-8D87-126C95BC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529-B924-4DFF-8737-80873C20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BD01-E78A-4022-AD8C-DA5DA1AE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76F6-E723-4BFD-8803-A604E88E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E57D-4FD7-4F73-B49F-BB5309D3A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01640" y="480960"/>
          <a:ext cx="77868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80960"/>
                    <a:ext cx="77868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527040"/>
          <a:ext cx="7823520" cy="6510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527040"/>
                    <a:ext cx="7823520" cy="65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1280" y="461880"/>
          <a:ext cx="871056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61880"/>
                    <a:ext cx="871056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06440" y="507960"/>
          <a:ext cx="8599320" cy="680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507960"/>
                    <a:ext cx="8599320" cy="68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115920"/>
            <a:ext cx="864072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a=a.readlin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linea=="": brea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c in linea: nc=nc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49360"/>
            <a:ext cx="7920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260280"/>
            <a:ext cx="835164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l=0 #contador de l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c=0 #contador de carac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l += 1 #nl=nl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nc += len(linea) #nc=nc+len(lin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l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nc,"caracter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ntaxis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operador=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emántica: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able = variable operador (expres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8360" y="260280"/>
            <a:ext cx="83516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=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#string para concatenar li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for linea in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 += linea #s=s+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t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plicable a archivos que caben en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692280"/>
            <a:ext cx="8351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#contar lineas y caracteres de un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a=open(raw_input("archivo?"),"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s = a.read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a.clos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s.count(“\n”),"linea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 len(s),"caracteres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¿a.read(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e y entrega todos los caracteres del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06440" y="379440"/>
          <a:ext cx="8580240" cy="689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40" y="379440"/>
                    <a:ext cx="858024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9840" y="674640"/>
          <a:ext cx="7315200" cy="594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74640"/>
                    <a:ext cx="7315200" cy="59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33440"/>
          <a:ext cx="8062920" cy="599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33440"/>
                    <a:ext cx="806292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3120" y="554040"/>
          <a:ext cx="83581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554040"/>
                    <a:ext cx="83581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71600" y="396720"/>
          <a:ext cx="8543880" cy="616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543880" cy="616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7720" y="507960"/>
          <a:ext cx="7888320" cy="644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507960"/>
                    <a:ext cx="78883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2520" y="351000"/>
          <a:ext cx="8432640" cy="722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51000"/>
                    <a:ext cx="8432640" cy="72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71600" y="396720"/>
          <a:ext cx="8432640" cy="675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396720"/>
                    <a:ext cx="8432640" cy="675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11-01-17T17:39:19Z</dcterms:modified>
  <cp:revision>55</cp:revision>
  <dc:subject/>
  <dc:title>Sin título de diapositiva</dc:title>
</cp:coreProperties>
</file>