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48BF-EF98-4439-8A78-254DBD4D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836B-9097-40E5-B0FF-E9FADAE1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C01C-BB6C-4BE7-A8DF-303C3BCD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2C59-305D-4FEC-92AA-97A5CEB5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1872-08A5-4A72-B2B6-2A82ABFB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8397-AFE4-4C62-BE9C-8C793CB8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9918-59C4-4EBD-A110-5047D59E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1343-D2B8-4822-A531-BCE197BA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1FE-913F-442B-A7A9-CDD70AF5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344B-A929-437A-BEF9-853A0460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E125-79DA-4879-923F-D83C3545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E9A5-29AC-4284-AB39-32ADED70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1702-269B-4864-9193-DDA754C2D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71600" y="406440"/>
          <a:ext cx="7905600" cy="64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0560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96720" y="258840"/>
          <a:ext cx="8386920" cy="6381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720" y="258840"/>
                    <a:ext cx="83869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71600" y="406440"/>
          <a:ext cx="8099280" cy="664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8099280" cy="66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71600" y="415800"/>
          <a:ext cx="8256600" cy="651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15800"/>
                    <a:ext cx="82566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1600" y="406440"/>
          <a:ext cx="7886520" cy="71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86520" cy="71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71600" y="406440"/>
          <a:ext cx="7988040" cy="720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88040" cy="72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1880" y="480960"/>
          <a:ext cx="8396280" cy="67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480960"/>
                    <a:ext cx="8396280" cy="67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9480" y="415800"/>
          <a:ext cx="8147160" cy="636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5800"/>
                    <a:ext cx="8147160" cy="63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31960" y="573120"/>
          <a:ext cx="8053200" cy="56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573120"/>
                    <a:ext cx="8053200" cy="56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95200" y="369720"/>
          <a:ext cx="8756640" cy="628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369720"/>
                    <a:ext cx="8756640" cy="628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71600" y="379440"/>
          <a:ext cx="834840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79440"/>
                    <a:ext cx="834840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57080" y="831960"/>
          <a:ext cx="7813800" cy="543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831960"/>
                    <a:ext cx="7813800" cy="54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4360" y="415800"/>
          <a:ext cx="8229600" cy="68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5800"/>
                    <a:ext cx="8229600" cy="68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84360" y="415800"/>
          <a:ext cx="8210520" cy="68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5800"/>
                    <a:ext cx="821052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71600" y="406440"/>
          <a:ext cx="78786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786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6-03-30T20:21:23Z</cp:lastPrinted>
  <dcterms:modified xsi:type="dcterms:W3CDTF">2011-01-14T13:37:06Z</dcterms:modified>
  <cp:revision>60</cp:revision>
  <dc:subject/>
  <dc:title>Sin título de diapositiva</dc:title>
</cp:coreProperties>
</file>