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DE4A-B567-4BC6-815E-33BE5BE3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0051-A015-4A6F-B043-23D408FE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1DF-797B-4DF4-876D-3A6F0A0F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971-7620-4368-B83D-9CBB967C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F21-71BD-48D7-9A5F-A45CE95E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BC3-8220-41EE-9589-ED168FD9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CB3-3854-49A6-A74D-83879AF8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DC8-7713-492D-A3E7-58EED8AD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FCC-C59C-4510-88D5-D27C1235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FED-05BD-4E86-B0AC-6E399FC9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E8F-B765-43FA-B750-1539584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EB3-4A09-4B83-BECD-E223F7C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7FF8-A748-4A37-9460-B443F4B31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93800" y="2022480"/>
          <a:ext cx="730728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22480"/>
                    <a:ext cx="7307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28640" y="2022480"/>
          <a:ext cx="72882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022480"/>
                    <a:ext cx="72882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01680" y="2309760"/>
          <a:ext cx="6519960" cy="38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2309760"/>
                    <a:ext cx="6519960" cy="38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7:59:47Z</dcterms:modified>
  <cp:revision>24</cp:revision>
  <dc:subject/>
  <dc:title>Un curso intensivo de Introducción a la Programación Orientada a Objetos en Java  para estudiantes de secundaria </dc:title>
</cp:coreProperties>
</file>