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AD4-5725-4ED1-9BE9-D2C12BAA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3B8-6FA0-4CFD-A939-426134F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EA2-9382-4FB8-B2E7-226763FF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475-82E4-4F95-ACA9-954CBC6E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1D9-2524-481B-BFC1-5DD4634D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A3C-56BB-4C1D-B273-6EEB873B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1D8-D09D-4B6A-A6E2-A348FA8C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5EE1-CF63-47D3-AA2F-0AC667DF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EB4-B129-4B37-933B-894B9DD3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32C-9672-4A22-9423-53E3E2BB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631-0BFA-423C-95EB-B692DDF9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A5F1-B5D0-4626-9037-BE9F6F6D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1A5D-07D9-42ED-8E8F-66D3E29EF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cuela de Verano 2010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mputación I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troducción a la Program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2 Pruebas (60%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93800" y="2022480"/>
          <a:ext cx="730728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022480"/>
                    <a:ext cx="7307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valuación: 4 tareas (40%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28640" y="2022480"/>
          <a:ext cx="72882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022480"/>
                    <a:ext cx="72882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undir estu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sciplina de Computación (Informát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uela de Ingeniería U. de Ch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traer estud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anar” p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spectiva de asignatura para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pa Concep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2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0"/>
            <a:endCxn id="49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pedagó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s centradas en alumnos y resolución de probl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yudantías-laboratorios: alumnos resuelven problemas en laboratorio con supervisión de profesor ayud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reas: alumnos resuelven problemas en laboratorios supervisados y abi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Hor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01680" y="2309760"/>
          <a:ext cx="6519960" cy="386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1680" y="2309760"/>
                    <a:ext cx="6519960" cy="38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un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roducción (30-4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lantea un problema y presenta contenidos para resolve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umnos resuelven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uciones (10-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esor presenta y analiza solu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enguaje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digma de orientación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1-04T11:43:13Z</cp:lastPrinted>
  <dcterms:modified xsi:type="dcterms:W3CDTF">2011-01-04T17:59:47Z</dcterms:modified>
  <cp:revision>24</cp:revision>
  <dc:subject/>
  <dc:title>Un curso intensivo de Introducción a la Programación Orientada a Objetos en Java  para estudiantes de secundaria </dc:title>
</cp:coreProperties>
</file>