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9247-F650-4BBE-B88A-975D2DA63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A0F9-AF7E-49E1-9933-84D3F805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5C32-F1B6-4646-A044-2B2BA0F94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0DF0-5C94-421D-87E8-949510A1E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3A3F-E970-4AAF-8EF7-C2D9B7C4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0587-4EA8-4B57-AE81-DD0EE43C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7FB6-6863-473A-9CED-04109A76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FACC-9B7D-4BE0-9B82-2BD2D9C6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BC62-D2FB-4175-9CE5-6B40F6B5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D2D5-622B-40D4-A7ED-3E13114A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5C26-C63F-4234-BE54-2EF6DF6D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A5F1-604A-42AE-933C-8FE1622E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14D5-A4D7-44A7-B3D2-2FAA6B2E1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2160" y="770040"/>
          <a:ext cx="752472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770040"/>
                    <a:ext cx="752472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55640" y="549360"/>
          <a:ext cx="8091360" cy="618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549360"/>
                    <a:ext cx="8091360" cy="61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79280" y="806400"/>
          <a:ext cx="8785080" cy="5430600"/>
        </p:xfrm>
        <a:graphic>
          <a:graphicData uri="http://schemas.openxmlformats.org/drawingml/2006/table">
            <a:tbl>
              <a:tblPr/>
              <a:tblGrid>
                <a:gridCol w="820440"/>
                <a:gridCol w="3755880"/>
                <a:gridCol w="4208760"/>
              </a:tblGrid>
              <a:tr h="65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1 promedio=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3184560" y="136440"/>
            <a:ext cx="35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00360" y="260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79280" y="1052640"/>
          <a:ext cx="8713800" cy="4757760"/>
        </p:xfrm>
        <a:graphic>
          <a:graphicData uri="http://schemas.openxmlformats.org/drawingml/2006/table">
            <a:tbl>
              <a:tblPr/>
              <a:tblGrid>
                <a:gridCol w="814320"/>
                <a:gridCol w="3838680"/>
                <a:gridCol w="406080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2 promedio=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2860560" y="352440"/>
            <a:ext cx="455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35320" y="47628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60360" y="331920"/>
          <a:ext cx="8718480" cy="718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0360" y="331920"/>
                    <a:ext cx="8718480" cy="71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52520" y="433440"/>
          <a:ext cx="8413560" cy="59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433440"/>
                    <a:ext cx="8413560" cy="59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84360" y="544680"/>
          <a:ext cx="6962760" cy="577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544680"/>
                    <a:ext cx="6962760" cy="57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11360" y="590400"/>
          <a:ext cx="7453080" cy="578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590400"/>
                    <a:ext cx="7453080" cy="57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14280" y="304920"/>
          <a:ext cx="8755200" cy="656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304920"/>
                    <a:ext cx="8755200" cy="656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396720" y="258840"/>
          <a:ext cx="8239320" cy="741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258840"/>
                    <a:ext cx="8239320" cy="74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04880" y="581040"/>
          <a:ext cx="79786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81040"/>
                    <a:ext cx="79786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79440" y="295200"/>
          <a:ext cx="8515440" cy="626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295200"/>
                    <a:ext cx="8515440" cy="62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54040" y="387360"/>
          <a:ext cx="8183520" cy="621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387360"/>
                    <a:ext cx="8183520" cy="62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" y="1981080"/>
          <a:ext cx="7918560" cy="4140360"/>
        </p:xfrm>
        <a:graphic>
          <a:graphicData uri="http://schemas.openxmlformats.org/drawingml/2006/table">
            <a:tbl>
              <a:tblPr/>
              <a:tblGrid>
                <a:gridCol w="501480"/>
                <a:gridCol w="2160720"/>
                <a:gridCol w="1079640"/>
                <a:gridCol w="215640"/>
                <a:gridCol w="649440"/>
                <a:gridCol w="2158920"/>
                <a:gridCol w="11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17680" y="517680"/>
          <a:ext cx="829440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517680"/>
                    <a:ext cx="8294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87360" y="442800"/>
          <a:ext cx="8543880" cy="69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" y="442800"/>
                    <a:ext cx="8543880" cy="69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07960" y="527040"/>
          <a:ext cx="8285040" cy="57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527040"/>
                    <a:ext cx="828504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868320" y="573120"/>
          <a:ext cx="7712280" cy="547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8320" y="573120"/>
                    <a:ext cx="7712280" cy="54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alvarez</dc:creator>
  <dc:description/>
  <dc:language>en-US</dc:language>
  <cp:lastModifiedBy>jalvarez</cp:lastModifiedBy>
  <cp:lastPrinted>2005-01-12T14:41:26Z</cp:lastPrinted>
  <dcterms:modified xsi:type="dcterms:W3CDTF">2011-01-12T14:18:22Z</dcterms:modified>
  <cp:revision>65</cp:revision>
  <dc:subject/>
  <dc:title>Sin título de diapositiva</dc:title>
</cp:coreProperties>
</file>