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81800" cy="9882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35F1-A3A5-499C-838E-A4D1F0EEA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C947-A656-4D76-AAFE-7703922FE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9279-EFAB-400C-8CAA-261E5DF58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0D07-8FDB-4610-A493-C669C987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F712-94A9-4E7B-B95A-540DB3632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B3BD-C77D-4A9B-A889-31FD5727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9F48-B3F1-4F18-86C1-9ECC591F9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10F0-B18A-4A30-B7EC-7F8B3EEB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88E-4DBF-4A0B-8D2D-76D4A710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315A-FD40-4450-A2A0-2CB770D6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059B-4880-4787-A69D-CFC1CB22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7212-DC1B-409A-8648-1491782D2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B4E4C-AAE3-4B63-9FD0-F3D03AC643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992160" y="770040"/>
          <a:ext cx="7524720" cy="552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2160" y="770040"/>
                    <a:ext cx="7524720" cy="552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755640" y="549360"/>
          <a:ext cx="8091360" cy="6188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549360"/>
                    <a:ext cx="8091360" cy="618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79280" y="806400"/>
          <a:ext cx="8785080" cy="5430600"/>
        </p:xfrm>
        <a:graphic>
          <a:graphicData uri="http://schemas.openxmlformats.org/drawingml/2006/table">
            <a:tbl>
              <a:tblPr/>
              <a:tblGrid>
                <a:gridCol w="820440"/>
                <a:gridCol w="3755880"/>
                <a:gridCol w="4208760"/>
              </a:tblGrid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8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1 promedio=4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5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2" name=""/>
          <p:cNvSpPr/>
          <p:nvPr/>
        </p:nvSpPr>
        <p:spPr>
          <a:xfrm>
            <a:off x="3184560" y="136440"/>
            <a:ext cx="35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00360" y="26028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79280" y="1052640"/>
          <a:ext cx="8713800" cy="4757760"/>
        </p:xfrm>
        <a:graphic>
          <a:graphicData uri="http://schemas.openxmlformats.org/drawingml/2006/table">
            <a:tbl>
              <a:tblPr/>
              <a:tblGrid>
                <a:gridCol w="814320"/>
                <a:gridCol w="3838680"/>
                <a:gridCol w="406080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=suma+nume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a: 1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=n+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: 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print …,n,…,suma/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uenta=2 promedio=5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=input(“…”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ero: 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while numero!=0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i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" name=""/>
          <p:cNvSpPr/>
          <p:nvPr/>
        </p:nvSpPr>
        <p:spPr>
          <a:xfrm>
            <a:off x="2860560" y="352440"/>
            <a:ext cx="4551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35320" y="476280"/>
            <a:ext cx="48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360360" y="331920"/>
          <a:ext cx="8718480" cy="7186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0360" y="331920"/>
                    <a:ext cx="8718480" cy="71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452520" y="433440"/>
          <a:ext cx="8413560" cy="59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2520" y="433440"/>
                    <a:ext cx="8413560" cy="59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84360" y="544680"/>
          <a:ext cx="6962760" cy="5773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544680"/>
                    <a:ext cx="6962760" cy="577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711360" y="590400"/>
          <a:ext cx="7453080" cy="5783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1360" y="590400"/>
                    <a:ext cx="7453080" cy="578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14280" y="304920"/>
          <a:ext cx="8755200" cy="656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4280" y="304920"/>
                    <a:ext cx="8755200" cy="656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396720" y="258840"/>
          <a:ext cx="8239320" cy="741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720" y="258840"/>
                    <a:ext cx="8239320" cy="741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704880" y="581040"/>
          <a:ext cx="7978680" cy="5999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581040"/>
                    <a:ext cx="797868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379440" y="295200"/>
          <a:ext cx="8515440" cy="6262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295200"/>
                    <a:ext cx="8515440" cy="626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554040" y="387360"/>
          <a:ext cx="8183520" cy="6216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4040" y="387360"/>
                    <a:ext cx="8183520" cy="621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jecución del pr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85800" y="1981080"/>
          <a:ext cx="7918560" cy="4140360"/>
        </p:xfrm>
        <a:graphic>
          <a:graphicData uri="http://schemas.openxmlformats.org/drawingml/2006/table">
            <a:tbl>
              <a:tblPr/>
              <a:tblGrid>
                <a:gridCol w="501480"/>
                <a:gridCol w="2160720"/>
                <a:gridCol w="1079640"/>
                <a:gridCol w="215640"/>
                <a:gridCol w="649440"/>
                <a:gridCol w="2158920"/>
                <a:gridCol w="1152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rucció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fec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1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 5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int n,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 1.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hile n&lt;=30: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l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=n+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: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7680" y="517680"/>
          <a:ext cx="8294400" cy="548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7680" y="517680"/>
                    <a:ext cx="82944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387360" y="442800"/>
          <a:ext cx="8543880" cy="6918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7360" y="442800"/>
                    <a:ext cx="8543880" cy="691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507960" y="527040"/>
          <a:ext cx="8285040" cy="5799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527040"/>
                    <a:ext cx="828504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68320" y="573120"/>
          <a:ext cx="7712280" cy="5476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8320" y="573120"/>
                    <a:ext cx="771228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1T13:00:51Z</dcterms:created>
  <dc:creator>jalvarez</dc:creator>
  <dc:description/>
  <dc:language>en-US</dc:language>
  <cp:lastModifiedBy>jalvarez</cp:lastModifiedBy>
  <cp:lastPrinted>2005-01-12T14:41:26Z</cp:lastPrinted>
  <dcterms:modified xsi:type="dcterms:W3CDTF">2011-01-12T14:18:22Z</dcterms:modified>
  <cp:revision>65</cp:revision>
  <dc:subject/>
  <dc:title>Sin título de diapositiva</dc:title>
</cp:coreProperties>
</file>