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F6C-8CEF-4F04-989E-E3EDD5D5D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0009-E428-4F80-BF83-8198FFF58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82E1-A2C2-45B9-A3BA-616260D0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E6B6-74E3-47E7-B8A4-DE7529613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5CDF-A460-4ED8-B54B-4974405CF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9EE8C-1946-4A42-BEB0-D5051B1B7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F027-FDA4-4680-9C88-D6A7172CC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E78CB-A8ED-4099-8640-592C280E9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73C8-469B-49F5-969B-E1A64CE14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7E04-EAF5-44A5-B5A0-945C43A15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BB21-453A-4F00-AE99-580B10087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C14F-6E13-4181-A69D-1F8ECC792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E8800-AF0F-46C8-B31A-1916113270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9280" y="27000"/>
            <a:ext cx="8785440" cy="62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Problema: ordenar 3 números generados al az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mpor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za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x,y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random.randint(x,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a=azar(1,100);b=azar(1,100);c=azar(1,100)#;separa in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print "Numeros=",min(a,b,c),</a:t>
            </a:r>
            <a:r>
              <a:rPr b="1" lang="es-ES" sz="2000" spc="-1" strike="noStrike">
                <a:solidFill>
                  <a:srgbClr val="000000"/>
                </a:solidFill>
                <a:latin typeface="Courier New"/>
              </a:rPr>
              <a:t>medio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(a,b,c),max(a,b,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Courier New"/>
              </a:rPr>
              <a:t>¿def medio(x,y,z):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1: restar menor y mayor de la suma de los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+y+z-max(x,y,z)-min(x,y,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2: menor de los gana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x,y),max(x,z),max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: mayor de los perdedores de los 3 “partidos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ax(min(x,y),min(x,z),min(y,z)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Times New Roman"/>
              </a:rPr>
              <a:t>Solución 4: ordenar los 2 primeros y comparar 3º con menor y mayo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menor=min(x,y);mayor=max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min(max(menor,z),may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33440" y="277920"/>
          <a:ext cx="7786800" cy="634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3440" y="277920"/>
                    <a:ext cx="7786800" cy="634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6300720" y="1341360"/>
            <a:ext cx="0" cy="2232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3708000" y="3500280"/>
            <a:ext cx="2592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425520" y="341280"/>
          <a:ext cx="8136000" cy="6891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520" y="341280"/>
                    <a:ext cx="8136000" cy="689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63400" y="396720"/>
          <a:ext cx="7952040" cy="6216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400" y="396720"/>
                    <a:ext cx="7952040" cy="621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701640"/>
          <a:ext cx="8425080" cy="525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701640"/>
                    <a:ext cx="842508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01640" y="461880"/>
          <a:ext cx="789768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461880"/>
                    <a:ext cx="789768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00120" y="471600"/>
          <a:ext cx="8219880" cy="6502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0120" y="471600"/>
                    <a:ext cx="8219880" cy="650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711360" y="433440"/>
          <a:ext cx="7804080" cy="69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433440"/>
                    <a:ext cx="7804080" cy="69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905040" y="701640"/>
          <a:ext cx="7518240" cy="698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701640"/>
                    <a:ext cx="7518240" cy="69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09480" y="476280"/>
          <a:ext cx="8350200" cy="78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476280"/>
                    <a:ext cx="8350200" cy="78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12760" y="471600"/>
          <a:ext cx="8793000" cy="66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2760" y="471600"/>
                    <a:ext cx="8793000" cy="66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839880" y="498600"/>
          <a:ext cx="7878600" cy="622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498600"/>
                    <a:ext cx="7878600" cy="622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328680"/>
            <a:ext cx="8424720" cy="53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Solución 3 (más na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e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yor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x,y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 x &gt; y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¿Signific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es mayor que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onc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ntregar el valor de x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n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ecir si es x menor o igual que y, devolver el valor de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31960" y="498600"/>
          <a:ext cx="7692840" cy="611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498600"/>
                    <a:ext cx="769284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684360" y="720720"/>
          <a:ext cx="7961040" cy="673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720720"/>
                    <a:ext cx="7961040" cy="673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914400" y="517680"/>
          <a:ext cx="7194600" cy="5614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17680"/>
                    <a:ext cx="7194600" cy="561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69840" y="619200"/>
          <a:ext cx="7915320" cy="5827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619200"/>
                    <a:ext cx="7915320" cy="582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720720" y="527040"/>
          <a:ext cx="8155080" cy="5846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527040"/>
                    <a:ext cx="8155080" cy="584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6-03-17T17:08:51Z</cp:lastPrinted>
  <dcterms:modified xsi:type="dcterms:W3CDTF">2011-01-09T13:34:24Z</dcterms:modified>
  <cp:revision>59</cp:revision>
  <dc:subject/>
  <dc:title>Sin título de diapositiva</dc:title>
</cp:coreProperties>
</file>