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9A8-A95C-4BCD-A5F9-CD6C9571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44B-76C7-4340-B4B4-EB32F0DF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BF5-9C55-4F7F-848C-76523AD3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D0E-420B-4501-95AF-E63738E3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618-DC45-445D-86A9-C7EE5567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4A4-66EA-44D2-8F10-4B8AC756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A66-ABC6-4035-B68C-F9817AF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2D4-E0CE-442D-9249-7D7B04D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659-AC15-49F7-92F8-C6FC4AA3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FCA-EA37-40DC-A752-1A918A62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5EA-0A13-4B76-8B42-C55562F9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9EA-033C-4587-AFA8-3B568857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AB77-01B2-4942-93F2-2BD7D32D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01960" y="3441600"/>
            <a:ext cx="1942920" cy="1828800"/>
            <a:chOff x="2901960" y="3441600"/>
            <a:chExt cx="1942920" cy="1828800"/>
          </a:xfrm>
        </p:grpSpPr>
        <p:sp>
          <p:nvSpPr>
            <p:cNvPr id="68" name="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1-01-07T13:10:55Z</dcterms:modified>
  <cp:revision>76</cp:revision>
  <dc:subject/>
  <dc:title>Sin título de diapositiva</dc:title>
</cp:coreProperties>
</file>