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775-7D4C-4DF0-8537-F7046EA4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2EE4-E367-46A0-99A7-77920184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CA0-6F32-4A26-897C-848B17BD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050A-CCE1-499E-A5E3-92F2FA83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C78-45E6-4EF9-88D5-4F81AFEB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BE9-30B0-4627-AD0B-D3FD7150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46A-3282-4379-BAC2-5B204B33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9D9-8FA8-4E65-A290-190F1F49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006-6F29-4BE5-91DC-6252CBFC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9306-48AE-4441-AFE2-E492DAAB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28EC-77D2-436A-BB4D-65E5D26D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878-1FA7-49BA-9F74-F24BB7B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33BD-D7CB-43BB-A0B4-B95D7022D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s.wikipedia.org/wiki/Carlos_I_de_Espa&#241;a" TargetMode="External"/><Relationship Id="rId3" Type="http://schemas.openxmlformats.org/officeDocument/2006/relationships/hyperlink" Target="http://es.wikipedia.org/wiki/1516" TargetMode="External"/><Relationship Id="rId4" Type="http://schemas.openxmlformats.org/officeDocument/2006/relationships/hyperlink" Target="http://es.wikipedia.org/wiki/1556" TargetMode="External"/><Relationship Id="rId5" Type="http://schemas.openxmlformats.org/officeDocument/2006/relationships/hyperlink" Target="http://es.wikipedia.org/wiki/Felipe_II_de_Espa&#241;a" TargetMode="External"/><Relationship Id="rId6" Type="http://schemas.openxmlformats.org/officeDocument/2006/relationships/hyperlink" Target="http://es.wikipedia.org/wiki/1556" TargetMode="External"/><Relationship Id="rId7" Type="http://schemas.openxmlformats.org/officeDocument/2006/relationships/hyperlink" Target="http://es.wikipedia.org/wiki/1598" TargetMode="External"/><Relationship Id="rId8" Type="http://schemas.openxmlformats.org/officeDocument/2006/relationships/hyperlink" Target="http://es.wikipedia.org/wiki/Felipe_III_de_Espa&#241;a" TargetMode="External"/><Relationship Id="rId9" Type="http://schemas.openxmlformats.org/officeDocument/2006/relationships/hyperlink" Target="http://es.wikipedia.org/wiki/1598" TargetMode="External"/><Relationship Id="rId10" Type="http://schemas.openxmlformats.org/officeDocument/2006/relationships/hyperlink" Target="http://es.wikipedia.org/wiki/1621" TargetMode="External"/><Relationship Id="rId11" Type="http://schemas.openxmlformats.org/officeDocument/2006/relationships/hyperlink" Target="http://es.wikipedia.org/wiki/Felipe_IV_de_Espa&#241;a" TargetMode="External"/><Relationship Id="rId12" Type="http://schemas.openxmlformats.org/officeDocument/2006/relationships/hyperlink" Target="http://es.wikipedia.org/wiki/1621" TargetMode="External"/><Relationship Id="rId13" Type="http://schemas.openxmlformats.org/officeDocument/2006/relationships/hyperlink" Target="http://es.wikipedia.org/wiki/1665" TargetMode="External"/><Relationship Id="rId14" Type="http://schemas.openxmlformats.org/officeDocument/2006/relationships/hyperlink" Target="http://es.wikipedia.org/wiki/Carlos_II_de_Espa&#241;a" TargetMode="External"/><Relationship Id="rId15" Type="http://schemas.openxmlformats.org/officeDocument/2006/relationships/hyperlink" Target="http://es.wikipedia.org/wiki/1665" TargetMode="External"/><Relationship Id="rId16" Type="http://schemas.openxmlformats.org/officeDocument/2006/relationships/hyperlink" Target="http://es.wikipedia.org/wiki/1700" TargetMode="External"/><Relationship Id="rId17" Type="http://schemas.openxmlformats.org/officeDocument/2006/relationships/hyperlink" Target="http://es.wikipedia.org/wiki/Felipe_V_de_Espa&#241;a" TargetMode="External"/><Relationship Id="rId18" Type="http://schemas.openxmlformats.org/officeDocument/2006/relationships/hyperlink" Target="http://es.wikipedia.org/wiki/1700" TargetMode="External"/><Relationship Id="rId19" Type="http://schemas.openxmlformats.org/officeDocument/2006/relationships/hyperlink" Target="http://es.wikipedia.org/wiki/1724" TargetMode="External"/><Relationship Id="rId20" Type="http://schemas.openxmlformats.org/officeDocument/2006/relationships/hyperlink" Target="http://es.wikipedia.org/wiki/Luis_I_de_Espa&#241;a" TargetMode="External"/><Relationship Id="rId21" Type="http://schemas.openxmlformats.org/officeDocument/2006/relationships/hyperlink" Target="http://es.wikipedia.org/wiki/Luis_I_de_Espa&#241;a" TargetMode="External"/><Relationship Id="rId22" Type="http://schemas.openxmlformats.org/officeDocument/2006/relationships/hyperlink" Target="http://es.wikipedia.org/wiki/1724" TargetMode="External"/><Relationship Id="rId23" Type="http://schemas.openxmlformats.org/officeDocument/2006/relationships/hyperlink" Target="http://es.wikipedia.org/wiki/Felipe_V_de_Espa&#241;a" TargetMode="External"/><Relationship Id="rId24" Type="http://schemas.openxmlformats.org/officeDocument/2006/relationships/hyperlink" Target="http://es.wikipedia.org/wiki/1724" TargetMode="External"/><Relationship Id="rId25" Type="http://schemas.openxmlformats.org/officeDocument/2006/relationships/hyperlink" Target="http://es.wikipedia.org/wiki/1746" TargetMode="External"/><Relationship Id="rId26" Type="http://schemas.openxmlformats.org/officeDocument/2006/relationships/hyperlink" Target="http://es.wikipedia.org/wiki/Fernando_VI_de_Espa&#241;a" TargetMode="External"/><Relationship Id="rId27" Type="http://schemas.openxmlformats.org/officeDocument/2006/relationships/hyperlink" Target="http://es.wikipedia.org/wiki/1746" TargetMode="External"/><Relationship Id="rId28" Type="http://schemas.openxmlformats.org/officeDocument/2006/relationships/hyperlink" Target="http://es.wikipedia.org/wiki/1759" TargetMode="External"/><Relationship Id="rId29" Type="http://schemas.openxmlformats.org/officeDocument/2006/relationships/hyperlink" Target="http://es.wikipedia.org/wiki/Carlos_III_de_Espa&#241;a" TargetMode="External"/><Relationship Id="rId30" Type="http://schemas.openxmlformats.org/officeDocument/2006/relationships/hyperlink" Target="http://es.wikipedia.org/wiki/1759" TargetMode="External"/><Relationship Id="rId31" Type="http://schemas.openxmlformats.org/officeDocument/2006/relationships/hyperlink" Target="http://es.wikipedia.org/wiki/1788" TargetMode="External"/><Relationship Id="rId32" Type="http://schemas.openxmlformats.org/officeDocument/2006/relationships/hyperlink" Target="http://es.wikipedia.org/wiki/Carlos_IV_de_Espa&#241;a" TargetMode="External"/><Relationship Id="rId33" Type="http://schemas.openxmlformats.org/officeDocument/2006/relationships/hyperlink" Target="http://es.wikipedia.org/wiki/1788" TargetMode="External"/><Relationship Id="rId34" Type="http://schemas.openxmlformats.org/officeDocument/2006/relationships/hyperlink" Target="http://es.wikipedia.org/wiki/1808" TargetMode="External"/><Relationship Id="rId35" Type="http://schemas.openxmlformats.org/officeDocument/2006/relationships/hyperlink" Target="http://es.wikipedia.org/wiki/Jos&#233;_I_de_Espa&#241;a" TargetMode="External"/><Relationship Id="rId36" Type="http://schemas.openxmlformats.org/officeDocument/2006/relationships/hyperlink" Target="http://es.wikipedia.org/wiki/1808" TargetMode="External"/><Relationship Id="rId37" Type="http://schemas.openxmlformats.org/officeDocument/2006/relationships/hyperlink" Target="http://es.wikipedia.org/wiki/1813" TargetMode="External"/><Relationship Id="rId38" Type="http://schemas.openxmlformats.org/officeDocument/2006/relationships/hyperlink" Target="http://es.wikipedia.org/wiki/Fernando_VII_de_Espa&#241;a" TargetMode="External"/><Relationship Id="rId39" Type="http://schemas.openxmlformats.org/officeDocument/2006/relationships/hyperlink" Target="http://es.wikipedia.org/wiki/1813" TargetMode="External"/><Relationship Id="rId40" Type="http://schemas.openxmlformats.org/officeDocument/2006/relationships/hyperlink" Target="http://es.wikipedia.org/wiki/1833" TargetMode="External"/><Relationship Id="rId41" Type="http://schemas.openxmlformats.org/officeDocument/2006/relationships/hyperlink" Target="http://es.wikipedia.org/wiki/Isabel_II_de_Espa&#241;a" TargetMode="External"/><Relationship Id="rId42" Type="http://schemas.openxmlformats.org/officeDocument/2006/relationships/hyperlink" Target="http://es.wikipedia.org/wiki/1833" TargetMode="External"/><Relationship Id="rId43" Type="http://schemas.openxmlformats.org/officeDocument/2006/relationships/hyperlink" Target="http://es.wikipedia.org/wiki/1868" TargetMode="External"/><Relationship Id="rId44" Type="http://schemas.openxmlformats.org/officeDocument/2006/relationships/hyperlink" Target="http://es.wikipedia.org/wiki/Francisco_Serrano_Dom&#237;nguez" TargetMode="External"/><Relationship Id="rId45" Type="http://schemas.openxmlformats.org/officeDocument/2006/relationships/hyperlink" Target="http://es.wikipedia.org/wiki/1868" TargetMode="External"/><Relationship Id="rId46" Type="http://schemas.openxmlformats.org/officeDocument/2006/relationships/hyperlink" Target="http://es.wikipedia.org/wiki/1871" TargetMode="External"/><Relationship Id="rId47" Type="http://schemas.openxmlformats.org/officeDocument/2006/relationships/hyperlink" Target="http://es.wikipedia.org/wiki/Amadeo_I_de_Espa&#241;a" TargetMode="External"/><Relationship Id="rId48" Type="http://schemas.openxmlformats.org/officeDocument/2006/relationships/hyperlink" Target="http://es.wikipedia.org/wiki/1871" TargetMode="External"/><Relationship Id="rId49" Type="http://schemas.openxmlformats.org/officeDocument/2006/relationships/hyperlink" Target="http://es.wikipedia.org/wiki/1873" TargetMode="External"/><Relationship Id="rId50" Type="http://schemas.openxmlformats.org/officeDocument/2006/relationships/hyperlink" Target="http://es.wikipedia.org/wiki/Primera_Rep&#250;blica_Espa&#241;ola" TargetMode="External"/><Relationship Id="rId51" Type="http://schemas.openxmlformats.org/officeDocument/2006/relationships/hyperlink" Target="http://es.wikipedia.org/wiki/1873" TargetMode="External"/><Relationship Id="rId52" Type="http://schemas.openxmlformats.org/officeDocument/2006/relationships/hyperlink" Target="http://es.wikipedia.org/wiki/1874" TargetMode="External"/><Relationship Id="rId53" Type="http://schemas.openxmlformats.org/officeDocument/2006/relationships/hyperlink" Target="http://es.wikipedia.org/wiki/Estanislao_Figueras" TargetMode="External"/><Relationship Id="rId54" Type="http://schemas.openxmlformats.org/officeDocument/2006/relationships/hyperlink" Target="http://es.wikipedia.org/wiki/Estanislao_Figueras" TargetMode="External"/><Relationship Id="rId55" Type="http://schemas.openxmlformats.org/officeDocument/2006/relationships/hyperlink" Target="http://es.wikipedia.org/wiki/Francisco_Pi_y_Margall" TargetMode="External"/><Relationship Id="rId56" Type="http://schemas.openxmlformats.org/officeDocument/2006/relationships/hyperlink" Target="http://es.wikipedia.org/wiki/Francisco_Pi_y_Margall" TargetMode="External"/><Relationship Id="rId57" Type="http://schemas.openxmlformats.org/officeDocument/2006/relationships/hyperlink" Target="http://es.wikipedia.org/wiki/Francisco_Pi_y_Margall" TargetMode="External"/><Relationship Id="rId58" Type="http://schemas.openxmlformats.org/officeDocument/2006/relationships/hyperlink" Target="http://es.wikipedia.org/wiki/Francisco_Pi_y_Margall" TargetMode="External"/><Relationship Id="rId59" Type="http://schemas.openxmlformats.org/officeDocument/2006/relationships/hyperlink" Target="http://es.wikipedia.org/wiki/Nicol&#225;s_Salmer&#243;n" TargetMode="External"/><Relationship Id="rId60" Type="http://schemas.openxmlformats.org/officeDocument/2006/relationships/hyperlink" Target="http://es.wikipedia.org/wiki/Emilio_Castelar" TargetMode="External"/><Relationship Id="rId61" Type="http://schemas.openxmlformats.org/officeDocument/2006/relationships/hyperlink" Target="http://es.wikipedia.org/wiki/Emilio_Castelar" TargetMode="External"/><Relationship Id="rId62" Type="http://schemas.openxmlformats.org/officeDocument/2006/relationships/hyperlink" Target="http://es.wikipedia.org/wiki/Francisco_Serrano_y_Dom&#237;nguez" TargetMode="External"/><Relationship Id="rId63" Type="http://schemas.openxmlformats.org/officeDocument/2006/relationships/hyperlink" Target="http://es.wikipedia.org/wiki/Alfonso_XII_de_Espa&#241;a" TargetMode="External"/><Relationship Id="rId64" Type="http://schemas.openxmlformats.org/officeDocument/2006/relationships/hyperlink" Target="http://es.wikipedia.org/wiki/1874" TargetMode="External"/><Relationship Id="rId65" Type="http://schemas.openxmlformats.org/officeDocument/2006/relationships/hyperlink" Target="http://es.wikipedia.org/wiki/1885" TargetMode="External"/><Relationship Id="rId66" Type="http://schemas.openxmlformats.org/officeDocument/2006/relationships/hyperlink" Target="http://es.wikipedia.org/wiki/Alfonso_XIII_de_Espa&#241;a" TargetMode="External"/><Relationship Id="rId67" Type="http://schemas.openxmlformats.org/officeDocument/2006/relationships/hyperlink" Target="http://es.wikipedia.org/wiki/1886" TargetMode="External"/><Relationship Id="rId68" Type="http://schemas.openxmlformats.org/officeDocument/2006/relationships/hyperlink" Target="http://es.wikipedia.org/wiki/1931" TargetMode="External"/><Relationship Id="rId69" Type="http://schemas.openxmlformats.org/officeDocument/2006/relationships/hyperlink" Target="http://es.wikipedia.org/wiki/Segunda_Rep&#250;blica_Espa&#241;ola" TargetMode="External"/><Relationship Id="rId70" Type="http://schemas.openxmlformats.org/officeDocument/2006/relationships/hyperlink" Target="http://es.wikipedia.org/wiki/1931" TargetMode="External"/><Relationship Id="rId71" Type="http://schemas.openxmlformats.org/officeDocument/2006/relationships/hyperlink" Target="http://es.wikipedia.org/wiki/1939" TargetMode="External"/><Relationship Id="rId72" Type="http://schemas.openxmlformats.org/officeDocument/2006/relationships/hyperlink" Target="http://es.wikipedia.org/wiki/Niceto_Alcal&#225;-Zamora" TargetMode="External"/><Relationship Id="rId73" Type="http://schemas.openxmlformats.org/officeDocument/2006/relationships/hyperlink" Target="http://es.wikipedia.org/wiki/Manuel_Aza&#241;a" TargetMode="External"/><Relationship Id="rId74" Type="http://schemas.openxmlformats.org/officeDocument/2006/relationships/hyperlink" Target="http://es.wikipedia.org/wiki/Manuel_Aza&#241;a" TargetMode="External"/><Relationship Id="rId7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Arial"/>
              </a:rPr>
              <a:t>HISTORIA DEL PREDOMINIO EUROPEO EN EL OR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GONZALO VIDU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PATAMENTO DE HISTORIA I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AMO DE LA MEMORIA HISTÓRIC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96760" y="106200"/>
            <a:ext cx="37152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16480" y="187920"/>
            <a:ext cx="2440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ultad de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uela de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27280" y="1484280"/>
            <a:ext cx="6130080" cy="3370680"/>
            <a:chOff x="2627280" y="1484280"/>
            <a:chExt cx="6130080" cy="3370680"/>
          </a:xfrm>
        </p:grpSpPr>
        <p:cxnSp>
          <p:nvCxnSpPr>
            <p:cNvPr id="227" name="_s13330"/>
            <p:cNvCxnSpPr>
              <a:stCxn id="228" idx="0"/>
              <a:endCxn id="229" idx="2"/>
            </p:cNvCxnSpPr>
            <p:nvPr/>
          </p:nvCxnSpPr>
          <p:spPr>
            <a:xfrm flipV="1" rot="16200000">
              <a:off x="6427800" y="2095920"/>
              <a:ext cx="674640" cy="21463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13329"/>
            <p:cNvCxnSpPr>
              <a:stCxn id="231" idx="0"/>
              <a:endCxn id="229" idx="2"/>
            </p:cNvCxnSpPr>
            <p:nvPr/>
          </p:nvCxnSpPr>
          <p:spPr>
            <a:xfrm flipV="1">
              <a:off x="5691960" y="2832120"/>
              <a:ext cx="2520" cy="674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13328"/>
            <p:cNvCxnSpPr>
              <a:stCxn id="233" idx="0"/>
              <a:endCxn id="229" idx="2"/>
            </p:cNvCxnSpPr>
            <p:nvPr/>
          </p:nvCxnSpPr>
          <p:spPr>
            <a:xfrm flipH="1" flipV="1" rot="5400000">
              <a:off x="4282200" y="2096280"/>
              <a:ext cx="674640" cy="214632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13324"/>
            <p:cNvSpPr/>
            <p:nvPr/>
          </p:nvSpPr>
          <p:spPr>
            <a:xfrm>
              <a:off x="4772880" y="148428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Tratado de Yal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3325"/>
            <p:cNvSpPr/>
            <p:nvPr/>
          </p:nvSpPr>
          <p:spPr>
            <a:xfrm>
              <a:off x="26272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EEU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oosve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3326"/>
            <p:cNvSpPr/>
            <p:nvPr/>
          </p:nvSpPr>
          <p:spPr>
            <a:xfrm>
              <a:off x="47728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Reino Uni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Church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3327"/>
            <p:cNvSpPr/>
            <p:nvPr/>
          </p:nvSpPr>
          <p:spPr>
            <a:xfrm>
              <a:off x="6918480" y="3506760"/>
              <a:ext cx="1838880" cy="1348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UR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Stal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419640" y="4869000"/>
            <a:ext cx="122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732360" y="486900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5661000"/>
            <a:ext cx="1584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erra F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032360" cy="201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26258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Históricos: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álisis del Medioevo: Caso Ibé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mer Período: M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undo Período: Col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rcer Período: Imp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 del Predominio Europe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565360"/>
            <a:ext cx="1511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L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256536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141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4221000"/>
            <a:ext cx="1584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78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356000" y="1700280"/>
            <a:ext cx="194472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56000" y="3141720"/>
            <a:ext cx="1944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4221000"/>
            <a:ext cx="18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437000"/>
            <a:ext cx="1800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141300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2997360"/>
            <a:ext cx="21589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005360"/>
            <a:ext cx="2305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72360" y="5589720"/>
            <a:ext cx="244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LIG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35640" y="2492280"/>
            <a:ext cx="33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"Tú, romano, recuerda tu misió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 rigiendo los pueblos con tu man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as serán tus ar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ner leyes de paz, conceder tu favor a los humil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 abatir combatiendo a los soberbios"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341360"/>
            <a:ext cx="180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x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1341360"/>
            <a:ext cx="2448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s de P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2637000"/>
            <a:ext cx="12970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rgi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neid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1341360"/>
            <a:ext cx="26654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estas populi Rom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55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1557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2565360"/>
            <a:ext cx="1728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iosincra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4360" y="285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924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4005360"/>
            <a:ext cx="2735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 vis pacem, para bel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5157720"/>
            <a:ext cx="1944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ellum iu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47640" y="32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56000" y="4005360"/>
            <a:ext cx="1511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ic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422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20000" y="3789360"/>
            <a:ext cx="1087200" cy="1604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4581360"/>
            <a:ext cx="3970440" cy="1990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63640" y="5589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476360" y="53006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042560" y="537372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84360" y="544500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5300640"/>
            <a:ext cx="3585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95640" y="558972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558972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580536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116000" y="5084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97164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ASO IBÉ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3987720" cy="3171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4788000" y="980640"/>
            <a:ext cx="208908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692280"/>
            <a:ext cx="2016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quista Ro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or par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 Escipión (211 a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780000" y="2204640"/>
            <a:ext cx="3024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1989000"/>
            <a:ext cx="2016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oledano: Reino Visigo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410 d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48000" y="3141360"/>
            <a:ext cx="345600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2852640"/>
            <a:ext cx="1584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vasión Ára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711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851280" y="4292280"/>
            <a:ext cx="2808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7080" y="414972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onquista de Gr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492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27280" y="227628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1700280"/>
            <a:ext cx="2519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ce Portugal: siglo X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2924280"/>
            <a:ext cx="15112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2720" y="5445000"/>
            <a:ext cx="2087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edia de Bay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808 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3360"/>
            <a:ext cx="18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inos Visig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052640"/>
            <a:ext cx="1835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inos Cristi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48428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916280"/>
            <a:ext cx="190800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rlos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51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55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Felipe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55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159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Felipe 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159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162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Felipe I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162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166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arlos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66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1700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elipe 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1700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Luis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Felipe 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172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174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Fernando V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174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175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arlos 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175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178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Carlos IV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178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180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José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180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181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Fernando V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181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183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Isabel 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183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186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Francisco Serrano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1868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187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Amadeo 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187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187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1ª república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1873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2"/>
              </a:rPr>
              <a:t>187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3"/>
              </a:rPr>
              <a:t>Estanisla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4"/>
              </a:rPr>
              <a:t>Figueras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5"/>
              </a:rPr>
              <a:t>Francisc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6"/>
              </a:rPr>
              <a:t>Pi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7"/>
              </a:rPr>
              <a:t> y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8"/>
              </a:rPr>
              <a:t>Margall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59"/>
              </a:rPr>
              <a:t>Nicolás Salmerón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0"/>
              </a:rPr>
              <a:t>Emilio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1"/>
              </a:rPr>
              <a:t>Castelar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2"/>
              </a:rPr>
              <a:t>Francisco Serrano y Domínguez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3"/>
              </a:rPr>
              <a:t>Alfonso X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4"/>
              </a:rPr>
              <a:t>1874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5"/>
              </a:rPr>
              <a:t>1885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6"/>
              </a:rPr>
              <a:t>Alfonso XIII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7"/>
              </a:rPr>
              <a:t>1886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193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69"/>
              </a:rPr>
              <a:t>2ª república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0"/>
              </a:rPr>
              <a:t>1931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1"/>
              </a:rPr>
              <a:t>1939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2"/>
              </a:rPr>
              <a:t>Niceto Alcalá-Zamora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3"/>
              </a:rPr>
              <a:t>Manuel </a:t>
            </a: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  <a:hlinkClick r:id="rId74"/>
              </a:rPr>
              <a:t>Azaña</a:t>
            </a:r>
            <a:br>
              <a:rPr sz="800"/>
            </a:br>
            <a:r>
              <a:rPr b="0" lang="es-ES" sz="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ctad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rancisco Franco Bahamonde</a:t>
            </a:r>
            <a:br>
              <a:rPr sz="800"/>
            </a:b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(1939-197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Juan Carlos I (1975-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58972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6237360"/>
            <a:ext cx="2158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Guerra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1936-19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6381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6237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ranco 1939-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645336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86560" y="6165720"/>
            <a:ext cx="16574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mocra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de 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1476360" y="1987920"/>
            <a:ext cx="4546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ust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1080" y="4293000"/>
            <a:ext cx="45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orb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imer Período: M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44360" y="2719800"/>
            <a:ext cx="2668680" cy="2256120"/>
            <a:chOff x="144360" y="2719800"/>
            <a:chExt cx="2668680" cy="2256120"/>
          </a:xfrm>
        </p:grpSpPr>
        <p:sp>
          <p:nvSpPr>
            <p:cNvPr id="120" name="_s9270"/>
            <p:cNvSpPr/>
            <p:nvPr/>
          </p:nvSpPr>
          <p:spPr>
            <a:xfrm flipH="1">
              <a:off x="834840" y="4280760"/>
              <a:ext cx="3232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9269"/>
            <p:cNvSpPr/>
            <p:nvPr/>
          </p:nvSpPr>
          <p:spPr>
            <a:xfrm>
              <a:off x="144360" y="428184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Alcacov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9268"/>
            <p:cNvSpPr/>
            <p:nvPr/>
          </p:nvSpPr>
          <p:spPr>
            <a:xfrm>
              <a:off x="1798200" y="4280760"/>
              <a:ext cx="322200" cy="174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9267"/>
            <p:cNvSpPr/>
            <p:nvPr/>
          </p:nvSpPr>
          <p:spPr>
            <a:xfrm>
              <a:off x="2071440" y="428184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ordesill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9266"/>
            <p:cNvSpPr/>
            <p:nvPr/>
          </p:nvSpPr>
          <p:spPr>
            <a:xfrm flipV="1">
              <a:off x="1478160" y="341244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9265"/>
            <p:cNvSpPr/>
            <p:nvPr/>
          </p:nvSpPr>
          <p:spPr>
            <a:xfrm>
              <a:off x="1108080" y="271980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Zaragoz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9264"/>
            <p:cNvSpPr/>
            <p:nvPr/>
          </p:nvSpPr>
          <p:spPr>
            <a:xfrm>
              <a:off x="1108080" y="3761280"/>
              <a:ext cx="741600" cy="694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Arial"/>
                </a:rPr>
                <a:t>tratad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39640" y="1341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341360"/>
            <a:ext cx="1008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1413000"/>
            <a:ext cx="10083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Utrumque I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198900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mperad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198900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0360" y="2565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° Rom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2565360"/>
            <a:ext cx="1008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D° Canó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060640"/>
            <a:ext cx="1297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Principales Po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6093000"/>
            <a:ext cx="1008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F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6021360"/>
            <a:ext cx="2664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Tierras para la corona y almas para D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6093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ado Misional Ind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32360" y="1628640"/>
            <a:ext cx="718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51640" y="1628640"/>
            <a:ext cx="505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48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148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93080" y="2781360"/>
            <a:ext cx="5745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987280" y="1484280"/>
            <a:ext cx="280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3851640" y="1484640"/>
            <a:ext cx="1008360" cy="7921800"/>
          </a:xfrm>
          <a:custGeom>
            <a:avLst/>
            <a:gdLst>
              <a:gd name="textAreaLeft" fmla="*/ 644400 w 1008360"/>
              <a:gd name="textAreaRight" fmla="*/ 1008360 w 1008360"/>
              <a:gd name="textAreaTop" fmla="*/ 312480 h 7921800"/>
              <a:gd name="textAreaBottom" fmla="*/ 7609320 h 792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3"/>
                  <a:pt x="10800" y="2725"/>
                </a:cubicBezTo>
                <a:lnTo>
                  <a:pt x="10800" y="8075"/>
                </a:lnTo>
                <a:cubicBezTo>
                  <a:pt x="10800" y="9438"/>
                  <a:pt x="5400" y="10800"/>
                  <a:pt x="0" y="10800"/>
                </a:cubicBezTo>
                <a:cubicBezTo>
                  <a:pt x="5400" y="10800"/>
                  <a:pt x="10800" y="12163"/>
                  <a:pt x="10800" y="13525"/>
                </a:cubicBezTo>
                <a:lnTo>
                  <a:pt x="10800" y="18875"/>
                </a:lnTo>
                <a:cubicBezTo>
                  <a:pt x="10800" y="202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61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21000"/>
            <a:ext cx="12970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12000" y="3141720"/>
            <a:ext cx="1008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gl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284640"/>
            <a:ext cx="12967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85080" y="4149720"/>
            <a:ext cx="1008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utor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953520" y="2979360"/>
            <a:ext cx="3109680" cy="2109960"/>
            <a:chOff x="3953520" y="2979360"/>
            <a:chExt cx="3109680" cy="2109960"/>
          </a:xfrm>
        </p:grpSpPr>
        <p:sp>
          <p:nvSpPr>
            <p:cNvPr id="155" name="_s9287"/>
            <p:cNvSpPr/>
            <p:nvPr/>
          </p:nvSpPr>
          <p:spPr>
            <a:xfrm flipH="1" flipV="1">
              <a:off x="4759560" y="3771000"/>
              <a:ext cx="37368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9286"/>
            <p:cNvSpPr/>
            <p:nvPr/>
          </p:nvSpPr>
          <p:spPr>
            <a:xfrm>
              <a:off x="3953520" y="337428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Sublimus De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9285"/>
            <p:cNvSpPr/>
            <p:nvPr/>
          </p:nvSpPr>
          <p:spPr>
            <a:xfrm flipH="1">
              <a:off x="4760640" y="4166640"/>
              <a:ext cx="37332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9284"/>
            <p:cNvSpPr/>
            <p:nvPr/>
          </p:nvSpPr>
          <p:spPr>
            <a:xfrm>
              <a:off x="3953520" y="416592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Dum Diversa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9283"/>
            <p:cNvSpPr/>
            <p:nvPr/>
          </p:nvSpPr>
          <p:spPr>
            <a:xfrm>
              <a:off x="5509800" y="4298760"/>
              <a:ext cx="0" cy="26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9282"/>
            <p:cNvSpPr/>
            <p:nvPr/>
          </p:nvSpPr>
          <p:spPr>
            <a:xfrm>
              <a:off x="5076360" y="4561920"/>
              <a:ext cx="864000" cy="527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omanus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ontife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9280"/>
            <p:cNvSpPr/>
            <p:nvPr/>
          </p:nvSpPr>
          <p:spPr>
            <a:xfrm>
              <a:off x="5883480" y="4165920"/>
              <a:ext cx="373680" cy="13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9279"/>
            <p:cNvSpPr/>
            <p:nvPr/>
          </p:nvSpPr>
          <p:spPr>
            <a:xfrm>
              <a:off x="6198840" y="416592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Aetern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Regi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9278"/>
            <p:cNvSpPr/>
            <p:nvPr/>
          </p:nvSpPr>
          <p:spPr>
            <a:xfrm flipV="1">
              <a:off x="5882400" y="3770280"/>
              <a:ext cx="373320" cy="1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9277"/>
            <p:cNvSpPr/>
            <p:nvPr/>
          </p:nvSpPr>
          <p:spPr>
            <a:xfrm>
              <a:off x="6198840" y="3374280"/>
              <a:ext cx="86436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Intercaete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9276"/>
            <p:cNvSpPr/>
            <p:nvPr/>
          </p:nvSpPr>
          <p:spPr>
            <a:xfrm flipV="1">
              <a:off x="5508720" y="3507120"/>
              <a:ext cx="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9275"/>
            <p:cNvSpPr/>
            <p:nvPr/>
          </p:nvSpPr>
          <p:spPr>
            <a:xfrm>
              <a:off x="5076360" y="2979360"/>
              <a:ext cx="86400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Piis Fideliu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9274"/>
            <p:cNvSpPr/>
            <p:nvPr/>
          </p:nvSpPr>
          <p:spPr>
            <a:xfrm>
              <a:off x="5076360" y="3771000"/>
              <a:ext cx="864000" cy="527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</a:rPr>
                <a:t>Bula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1160" cy="1244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9255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gundo Período: Cul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627280" y="1341360"/>
            <a:ext cx="4978080" cy="2737800"/>
            <a:chOff x="2627280" y="1341360"/>
            <a:chExt cx="4978080" cy="2737800"/>
          </a:xfrm>
        </p:grpSpPr>
        <p:cxnSp>
          <p:nvCxnSpPr>
            <p:cNvPr id="172" name="_s10252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713200" y="1838160"/>
              <a:ext cx="548280" cy="174312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10251"/>
            <p:cNvCxnSpPr>
              <a:stCxn id="176" idx="0"/>
              <a:endCxn id="174" idx="2"/>
            </p:cNvCxnSpPr>
            <p:nvPr/>
          </p:nvCxnSpPr>
          <p:spPr>
            <a:xfrm flipV="1">
              <a:off x="5116320" y="2435760"/>
              <a:ext cx="2160" cy="54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250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3971160" y="1838520"/>
              <a:ext cx="548280" cy="174312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4" name="_s10246"/>
            <p:cNvSpPr/>
            <p:nvPr/>
          </p:nvSpPr>
          <p:spPr>
            <a:xfrm>
              <a:off x="4369680" y="134136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Nuevos País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247"/>
            <p:cNvSpPr/>
            <p:nvPr/>
          </p:nvSpPr>
          <p:spPr>
            <a:xfrm>
              <a:off x="26272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Inglaterr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0248"/>
            <p:cNvSpPr/>
            <p:nvPr/>
          </p:nvSpPr>
          <p:spPr>
            <a:xfrm>
              <a:off x="43696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Franci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249"/>
            <p:cNvSpPr/>
            <p:nvPr/>
          </p:nvSpPr>
          <p:spPr>
            <a:xfrm>
              <a:off x="6112080" y="2984040"/>
              <a:ext cx="1493280" cy="1095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300" spc="-1" strike="noStrike">
                  <a:solidFill>
                    <a:srgbClr val="000000"/>
                  </a:solidFill>
                  <a:latin typeface="Arial"/>
                </a:rPr>
                <a:t>Holand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5400000">
            <a:off x="4138920" y="405360"/>
            <a:ext cx="433440" cy="7921800"/>
          </a:xfrm>
          <a:custGeom>
            <a:avLst/>
            <a:gdLst>
              <a:gd name="textAreaLeft" fmla="*/ 276840 w 433440"/>
              <a:gd name="textAreaRight" fmla="*/ 433800 w 433440"/>
              <a:gd name="textAreaTop" fmla="*/ 312480 h 7921800"/>
              <a:gd name="textAreaBottom" fmla="*/ 7609320 h 792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63"/>
                  <a:pt x="10800" y="2725"/>
                </a:cubicBezTo>
                <a:lnTo>
                  <a:pt x="10800" y="8075"/>
                </a:lnTo>
                <a:cubicBezTo>
                  <a:pt x="10800" y="9438"/>
                  <a:pt x="5400" y="10800"/>
                  <a:pt x="0" y="10800"/>
                </a:cubicBezTo>
                <a:cubicBezTo>
                  <a:pt x="5400" y="10800"/>
                  <a:pt x="10800" y="12163"/>
                  <a:pt x="10800" y="13525"/>
                </a:cubicBezTo>
                <a:lnTo>
                  <a:pt x="10800" y="18875"/>
                </a:lnTo>
                <a:cubicBezTo>
                  <a:pt x="10800" y="202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58136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lon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5589720"/>
            <a:ext cx="1297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róp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5734080"/>
            <a:ext cx="22338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ombres Sup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3640" y="479736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ique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27280" y="4869000"/>
            <a:ext cx="165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testant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4653000"/>
            <a:ext cx="1297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árb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2592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rcer Período: Téc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125360"/>
            <a:ext cx="1297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148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84360" y="1268280"/>
            <a:ext cx="2592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acer Producir, Explo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1341360"/>
            <a:ext cx="2303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rcer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5280" y="2276640"/>
            <a:ext cx="4249440" cy="2335680"/>
            <a:chOff x="395280" y="2276640"/>
            <a:chExt cx="4249440" cy="2335680"/>
          </a:xfrm>
        </p:grpSpPr>
        <p:cxnSp>
          <p:nvCxnSpPr>
            <p:cNvPr id="194" name="_s11275"/>
            <p:cNvCxnSpPr>
              <a:stCxn id="195" idx="0"/>
              <a:endCxn id="196" idx="2"/>
            </p:cNvCxnSpPr>
            <p:nvPr/>
          </p:nvCxnSpPr>
          <p:spPr>
            <a:xfrm flipV="1" rot="16200000">
              <a:off x="3029400" y="2700000"/>
              <a:ext cx="467640" cy="1487880"/>
            </a:xfrm>
            <a:prstGeom prst="bentConnector3">
              <a:avLst>
                <a:gd name="adj1" fmla="val 20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1276"/>
            <p:cNvCxnSpPr>
              <a:stCxn id="198" idx="0"/>
              <a:endCxn id="196" idx="2"/>
            </p:cNvCxnSpPr>
            <p:nvPr/>
          </p:nvCxnSpPr>
          <p:spPr>
            <a:xfrm flipV="1">
              <a:off x="2519640" y="3210120"/>
              <a:ext cx="1800" cy="467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1277"/>
            <p:cNvCxnSpPr>
              <a:stCxn id="200" idx="0"/>
              <a:endCxn id="196" idx="2"/>
            </p:cNvCxnSpPr>
            <p:nvPr/>
          </p:nvCxnSpPr>
          <p:spPr>
            <a:xfrm flipH="1" flipV="1" rot="5400000">
              <a:off x="1542240" y="2700000"/>
              <a:ext cx="467640" cy="1487880"/>
            </a:xfrm>
            <a:prstGeom prst="bentConnector3">
              <a:avLst>
                <a:gd name="adj1" fmla="val 20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_s11278"/>
            <p:cNvSpPr/>
            <p:nvPr/>
          </p:nvSpPr>
          <p:spPr>
            <a:xfrm>
              <a:off x="1882440" y="227664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Nuevos Paí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1279"/>
            <p:cNvSpPr/>
            <p:nvPr/>
          </p:nvSpPr>
          <p:spPr>
            <a:xfrm>
              <a:off x="39528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Aleman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1280"/>
            <p:cNvSpPr/>
            <p:nvPr/>
          </p:nvSpPr>
          <p:spPr>
            <a:xfrm>
              <a:off x="188244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Bélg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1281"/>
            <p:cNvSpPr/>
            <p:nvPr/>
          </p:nvSpPr>
          <p:spPr>
            <a:xfrm>
              <a:off x="3369960" y="3678120"/>
              <a:ext cx="1274760" cy="93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100" spc="-1" strike="noStrike">
                  <a:solidFill>
                    <a:srgbClr val="000000"/>
                  </a:solidFill>
                  <a:latin typeface="Arial"/>
                </a:rPr>
                <a:t>Ital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1979280" y="4653000"/>
            <a:ext cx="144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544500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legan T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850000"/>
            <a:ext cx="64764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95640" y="5516640"/>
            <a:ext cx="187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084720" y="1989000"/>
            <a:ext cx="28670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in del Predominio Europ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1413000"/>
            <a:ext cx="1871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ída de Españ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1628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9640" y="1341360"/>
            <a:ext cx="23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uerra de Cuba 1.8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1341360"/>
            <a:ext cx="2232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ctrina Monr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2492280"/>
            <a:ext cx="1871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mera Gu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3500280"/>
            <a:ext cx="1943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rge EE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3640" y="2421000"/>
            <a:ext cx="215892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eguer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84720" y="2997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3573360"/>
            <a:ext cx="2303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 de Versa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ída de La bol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cional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olución R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4720" y="2349360"/>
            <a:ext cx="273528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gunda Guerra Mu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472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3645000"/>
            <a:ext cx="3419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trucción completa de Eu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2472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4797360"/>
            <a:ext cx="30258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tado de Y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1905120" cy="2590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643280" y="5300640"/>
            <a:ext cx="11224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37:44Z</dcterms:created>
  <dc:creator>Gonzalo Vidueira</dc:creator>
  <dc:description/>
  <dc:language>en-US</dc:language>
  <cp:lastModifiedBy>Gonzalo Vidueira</cp:lastModifiedBy>
  <dcterms:modified xsi:type="dcterms:W3CDTF">2006-12-04T20:18:21Z</dcterms:modified>
  <cp:revision>8</cp:revision>
  <dc:subject/>
  <dc:title>HISTORIA DEL PREDOMINIO EUROPEO EN EL ORBE.</dc:title>
</cp:coreProperties>
</file>