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3163-4FF1-4C16-A13D-4E9AAC811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C296-3C88-4E06-86AB-6E255FE5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8AEF-47B6-4FEA-8B48-5B788990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6D8D-85F3-4671-8CBB-C6421216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8768-29FB-4D63-B339-470F8987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F6C5-1E67-4404-BDFB-B1EDCE34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DB99-1734-494E-BE81-B7017567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5F7D-B842-4C38-AC3A-B35CA78E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3073-B337-4A94-BFC4-B1FCB9CB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18E8-5319-4FE7-A35B-67DD0DB0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D1F0-0946-4FD5-BC23-F164ED52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0CA0-D1AD-4A4B-B0AC-6D7D018A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17CE-2E8A-4982-871E-52D18B957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es.wikipedia.org/wiki/Carlos_I_de_Espa&#241;a" TargetMode="External"/><Relationship Id="rId3" Type="http://schemas.openxmlformats.org/officeDocument/2006/relationships/hyperlink" Target="http://es.wikipedia.org/wiki/1516" TargetMode="External"/><Relationship Id="rId4" Type="http://schemas.openxmlformats.org/officeDocument/2006/relationships/hyperlink" Target="http://es.wikipedia.org/wiki/1556" TargetMode="External"/><Relationship Id="rId5" Type="http://schemas.openxmlformats.org/officeDocument/2006/relationships/hyperlink" Target="http://es.wikipedia.org/wiki/Felipe_II_de_Espa&#241;a" TargetMode="External"/><Relationship Id="rId6" Type="http://schemas.openxmlformats.org/officeDocument/2006/relationships/hyperlink" Target="http://es.wikipedia.org/wiki/1556" TargetMode="External"/><Relationship Id="rId7" Type="http://schemas.openxmlformats.org/officeDocument/2006/relationships/hyperlink" Target="http://es.wikipedia.org/wiki/1598" TargetMode="External"/><Relationship Id="rId8" Type="http://schemas.openxmlformats.org/officeDocument/2006/relationships/hyperlink" Target="http://es.wikipedia.org/wiki/Felipe_III_de_Espa&#241;a" TargetMode="External"/><Relationship Id="rId9" Type="http://schemas.openxmlformats.org/officeDocument/2006/relationships/hyperlink" Target="http://es.wikipedia.org/wiki/1598" TargetMode="External"/><Relationship Id="rId10" Type="http://schemas.openxmlformats.org/officeDocument/2006/relationships/hyperlink" Target="http://es.wikipedia.org/wiki/1621" TargetMode="External"/><Relationship Id="rId11" Type="http://schemas.openxmlformats.org/officeDocument/2006/relationships/hyperlink" Target="http://es.wikipedia.org/wiki/Felipe_IV_de_Espa&#241;a" TargetMode="External"/><Relationship Id="rId12" Type="http://schemas.openxmlformats.org/officeDocument/2006/relationships/hyperlink" Target="http://es.wikipedia.org/wiki/1621" TargetMode="External"/><Relationship Id="rId13" Type="http://schemas.openxmlformats.org/officeDocument/2006/relationships/hyperlink" Target="http://es.wikipedia.org/wiki/1665" TargetMode="External"/><Relationship Id="rId14" Type="http://schemas.openxmlformats.org/officeDocument/2006/relationships/hyperlink" Target="http://es.wikipedia.org/wiki/Carlos_II_de_Espa&#241;a" TargetMode="External"/><Relationship Id="rId15" Type="http://schemas.openxmlformats.org/officeDocument/2006/relationships/hyperlink" Target="http://es.wikipedia.org/wiki/1665" TargetMode="External"/><Relationship Id="rId16" Type="http://schemas.openxmlformats.org/officeDocument/2006/relationships/hyperlink" Target="http://es.wikipedia.org/wiki/1700" TargetMode="External"/><Relationship Id="rId17" Type="http://schemas.openxmlformats.org/officeDocument/2006/relationships/hyperlink" Target="http://es.wikipedia.org/wiki/Felipe_V_de_Espa&#241;a" TargetMode="External"/><Relationship Id="rId18" Type="http://schemas.openxmlformats.org/officeDocument/2006/relationships/hyperlink" Target="http://es.wikipedia.org/wiki/1700" TargetMode="External"/><Relationship Id="rId19" Type="http://schemas.openxmlformats.org/officeDocument/2006/relationships/hyperlink" Target="http://es.wikipedia.org/wiki/1724" TargetMode="External"/><Relationship Id="rId20" Type="http://schemas.openxmlformats.org/officeDocument/2006/relationships/hyperlink" Target="http://es.wikipedia.org/wiki/Luis_I_de_Espa&#241;a" TargetMode="External"/><Relationship Id="rId21" Type="http://schemas.openxmlformats.org/officeDocument/2006/relationships/hyperlink" Target="http://es.wikipedia.org/wiki/Luis_I_de_Espa&#241;a" TargetMode="External"/><Relationship Id="rId22" Type="http://schemas.openxmlformats.org/officeDocument/2006/relationships/hyperlink" Target="http://es.wikipedia.org/wiki/1724" TargetMode="External"/><Relationship Id="rId23" Type="http://schemas.openxmlformats.org/officeDocument/2006/relationships/hyperlink" Target="http://es.wikipedia.org/wiki/Felipe_V_de_Espa&#241;a" TargetMode="External"/><Relationship Id="rId24" Type="http://schemas.openxmlformats.org/officeDocument/2006/relationships/hyperlink" Target="http://es.wikipedia.org/wiki/1724" TargetMode="External"/><Relationship Id="rId25" Type="http://schemas.openxmlformats.org/officeDocument/2006/relationships/hyperlink" Target="http://es.wikipedia.org/wiki/1746" TargetMode="External"/><Relationship Id="rId26" Type="http://schemas.openxmlformats.org/officeDocument/2006/relationships/hyperlink" Target="http://es.wikipedia.org/wiki/Fernando_VI_de_Espa&#241;a" TargetMode="External"/><Relationship Id="rId27" Type="http://schemas.openxmlformats.org/officeDocument/2006/relationships/hyperlink" Target="http://es.wikipedia.org/wiki/1746" TargetMode="External"/><Relationship Id="rId28" Type="http://schemas.openxmlformats.org/officeDocument/2006/relationships/hyperlink" Target="http://es.wikipedia.org/wiki/1759" TargetMode="External"/><Relationship Id="rId29" Type="http://schemas.openxmlformats.org/officeDocument/2006/relationships/hyperlink" Target="http://es.wikipedia.org/wiki/Carlos_III_de_Espa&#241;a" TargetMode="External"/><Relationship Id="rId30" Type="http://schemas.openxmlformats.org/officeDocument/2006/relationships/hyperlink" Target="http://es.wikipedia.org/wiki/1759" TargetMode="External"/><Relationship Id="rId31" Type="http://schemas.openxmlformats.org/officeDocument/2006/relationships/hyperlink" Target="http://es.wikipedia.org/wiki/1788" TargetMode="External"/><Relationship Id="rId32" Type="http://schemas.openxmlformats.org/officeDocument/2006/relationships/hyperlink" Target="http://es.wikipedia.org/wiki/Carlos_IV_de_Espa&#241;a" TargetMode="External"/><Relationship Id="rId33" Type="http://schemas.openxmlformats.org/officeDocument/2006/relationships/hyperlink" Target="http://es.wikipedia.org/wiki/1788" TargetMode="External"/><Relationship Id="rId34" Type="http://schemas.openxmlformats.org/officeDocument/2006/relationships/hyperlink" Target="http://es.wikipedia.org/wiki/1808" TargetMode="External"/><Relationship Id="rId35" Type="http://schemas.openxmlformats.org/officeDocument/2006/relationships/hyperlink" Target="http://es.wikipedia.org/wiki/Jos&#233;_I_de_Espa&#241;a" TargetMode="External"/><Relationship Id="rId36" Type="http://schemas.openxmlformats.org/officeDocument/2006/relationships/hyperlink" Target="http://es.wikipedia.org/wiki/1808" TargetMode="External"/><Relationship Id="rId37" Type="http://schemas.openxmlformats.org/officeDocument/2006/relationships/hyperlink" Target="http://es.wikipedia.org/wiki/1813" TargetMode="External"/><Relationship Id="rId38" Type="http://schemas.openxmlformats.org/officeDocument/2006/relationships/hyperlink" Target="http://es.wikipedia.org/wiki/Fernando_VII_de_Espa&#241;a" TargetMode="External"/><Relationship Id="rId39" Type="http://schemas.openxmlformats.org/officeDocument/2006/relationships/hyperlink" Target="http://es.wikipedia.org/wiki/1813" TargetMode="External"/><Relationship Id="rId40" Type="http://schemas.openxmlformats.org/officeDocument/2006/relationships/hyperlink" Target="http://es.wikipedia.org/wiki/1833" TargetMode="External"/><Relationship Id="rId41" Type="http://schemas.openxmlformats.org/officeDocument/2006/relationships/hyperlink" Target="http://es.wikipedia.org/wiki/Isabel_II_de_Espa&#241;a" TargetMode="External"/><Relationship Id="rId42" Type="http://schemas.openxmlformats.org/officeDocument/2006/relationships/hyperlink" Target="http://es.wikipedia.org/wiki/1833" TargetMode="External"/><Relationship Id="rId43" Type="http://schemas.openxmlformats.org/officeDocument/2006/relationships/hyperlink" Target="http://es.wikipedia.org/wiki/1868" TargetMode="External"/><Relationship Id="rId44" Type="http://schemas.openxmlformats.org/officeDocument/2006/relationships/hyperlink" Target="http://es.wikipedia.org/wiki/Francisco_Serrano_Dom&#237;nguez" TargetMode="External"/><Relationship Id="rId45" Type="http://schemas.openxmlformats.org/officeDocument/2006/relationships/hyperlink" Target="http://es.wikipedia.org/wiki/1868" TargetMode="External"/><Relationship Id="rId46" Type="http://schemas.openxmlformats.org/officeDocument/2006/relationships/hyperlink" Target="http://es.wikipedia.org/wiki/1871" TargetMode="External"/><Relationship Id="rId47" Type="http://schemas.openxmlformats.org/officeDocument/2006/relationships/hyperlink" Target="http://es.wikipedia.org/wiki/Amadeo_I_de_Espa&#241;a" TargetMode="External"/><Relationship Id="rId48" Type="http://schemas.openxmlformats.org/officeDocument/2006/relationships/hyperlink" Target="http://es.wikipedia.org/wiki/1871" TargetMode="External"/><Relationship Id="rId49" Type="http://schemas.openxmlformats.org/officeDocument/2006/relationships/hyperlink" Target="http://es.wikipedia.org/wiki/1873" TargetMode="External"/><Relationship Id="rId50" Type="http://schemas.openxmlformats.org/officeDocument/2006/relationships/hyperlink" Target="http://es.wikipedia.org/wiki/Primera_Rep&#250;blica_Espa&#241;ola" TargetMode="External"/><Relationship Id="rId51" Type="http://schemas.openxmlformats.org/officeDocument/2006/relationships/hyperlink" Target="http://es.wikipedia.org/wiki/1873" TargetMode="External"/><Relationship Id="rId52" Type="http://schemas.openxmlformats.org/officeDocument/2006/relationships/hyperlink" Target="http://es.wikipedia.org/wiki/1874" TargetMode="External"/><Relationship Id="rId53" Type="http://schemas.openxmlformats.org/officeDocument/2006/relationships/hyperlink" Target="http://es.wikipedia.org/wiki/Estanislao_Figueras" TargetMode="External"/><Relationship Id="rId54" Type="http://schemas.openxmlformats.org/officeDocument/2006/relationships/hyperlink" Target="http://es.wikipedia.org/wiki/Estanislao_Figueras" TargetMode="External"/><Relationship Id="rId55" Type="http://schemas.openxmlformats.org/officeDocument/2006/relationships/hyperlink" Target="http://es.wikipedia.org/wiki/Francisco_Pi_y_Margall" TargetMode="External"/><Relationship Id="rId56" Type="http://schemas.openxmlformats.org/officeDocument/2006/relationships/hyperlink" Target="http://es.wikipedia.org/wiki/Francisco_Pi_y_Margall" TargetMode="External"/><Relationship Id="rId57" Type="http://schemas.openxmlformats.org/officeDocument/2006/relationships/hyperlink" Target="http://es.wikipedia.org/wiki/Francisco_Pi_y_Margall" TargetMode="External"/><Relationship Id="rId58" Type="http://schemas.openxmlformats.org/officeDocument/2006/relationships/hyperlink" Target="http://es.wikipedia.org/wiki/Francisco_Pi_y_Margall" TargetMode="External"/><Relationship Id="rId59" Type="http://schemas.openxmlformats.org/officeDocument/2006/relationships/hyperlink" Target="http://es.wikipedia.org/wiki/Nicol&#225;s_Salmer&#243;n" TargetMode="External"/><Relationship Id="rId60" Type="http://schemas.openxmlformats.org/officeDocument/2006/relationships/hyperlink" Target="http://es.wikipedia.org/wiki/Emilio_Castelar" TargetMode="External"/><Relationship Id="rId61" Type="http://schemas.openxmlformats.org/officeDocument/2006/relationships/hyperlink" Target="http://es.wikipedia.org/wiki/Emilio_Castelar" TargetMode="External"/><Relationship Id="rId62" Type="http://schemas.openxmlformats.org/officeDocument/2006/relationships/hyperlink" Target="http://es.wikipedia.org/wiki/Francisco_Serrano_y_Dom&#237;nguez" TargetMode="External"/><Relationship Id="rId63" Type="http://schemas.openxmlformats.org/officeDocument/2006/relationships/hyperlink" Target="http://es.wikipedia.org/wiki/Alfonso_XII_de_Espa&#241;a" TargetMode="External"/><Relationship Id="rId64" Type="http://schemas.openxmlformats.org/officeDocument/2006/relationships/hyperlink" Target="http://es.wikipedia.org/wiki/1874" TargetMode="External"/><Relationship Id="rId65" Type="http://schemas.openxmlformats.org/officeDocument/2006/relationships/hyperlink" Target="http://es.wikipedia.org/wiki/1885" TargetMode="External"/><Relationship Id="rId66" Type="http://schemas.openxmlformats.org/officeDocument/2006/relationships/hyperlink" Target="http://es.wikipedia.org/wiki/Alfonso_XIII_de_Espa&#241;a" TargetMode="External"/><Relationship Id="rId67" Type="http://schemas.openxmlformats.org/officeDocument/2006/relationships/hyperlink" Target="http://es.wikipedia.org/wiki/1886" TargetMode="External"/><Relationship Id="rId68" Type="http://schemas.openxmlformats.org/officeDocument/2006/relationships/hyperlink" Target="http://es.wikipedia.org/wiki/1931" TargetMode="External"/><Relationship Id="rId69" Type="http://schemas.openxmlformats.org/officeDocument/2006/relationships/hyperlink" Target="http://es.wikipedia.org/wiki/Segunda_Rep&#250;blica_Espa&#241;ola" TargetMode="External"/><Relationship Id="rId70" Type="http://schemas.openxmlformats.org/officeDocument/2006/relationships/hyperlink" Target="http://es.wikipedia.org/wiki/1931" TargetMode="External"/><Relationship Id="rId71" Type="http://schemas.openxmlformats.org/officeDocument/2006/relationships/hyperlink" Target="http://es.wikipedia.org/wiki/1939" TargetMode="External"/><Relationship Id="rId72" Type="http://schemas.openxmlformats.org/officeDocument/2006/relationships/hyperlink" Target="http://es.wikipedia.org/wiki/Niceto_Alcal&#225;-Zamora" TargetMode="External"/><Relationship Id="rId73" Type="http://schemas.openxmlformats.org/officeDocument/2006/relationships/hyperlink" Target="http://es.wikipedia.org/wiki/Manuel_Aza&#241;a" TargetMode="External"/><Relationship Id="rId74" Type="http://schemas.openxmlformats.org/officeDocument/2006/relationships/hyperlink" Target="http://es.wikipedia.org/wiki/Manuel_Aza&#241;a" TargetMode="External"/><Relationship Id="rId7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000000"/>
                </a:solidFill>
                <a:uFillTx/>
                <a:latin typeface="Arial"/>
              </a:rPr>
              <a:t>HISTORIA DEL PREDOMINIO EUROPEO EN EL ORB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R GONZALO VIDU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PATAMENTO DE HISTORIA I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AMO DE LA MEMORIA HISTÓRIC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96760" y="106200"/>
            <a:ext cx="371520" cy="762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16480" y="187920"/>
            <a:ext cx="24408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ultad de Derech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uela de Dere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627280" y="1484280"/>
            <a:ext cx="6130080" cy="3370680"/>
            <a:chOff x="2627280" y="1484280"/>
            <a:chExt cx="6130080" cy="3370680"/>
          </a:xfrm>
        </p:grpSpPr>
        <p:cxnSp>
          <p:nvCxnSpPr>
            <p:cNvPr id="227" name="_s13330"/>
            <p:cNvCxnSpPr>
              <a:stCxn id="228" idx="0"/>
              <a:endCxn id="229" idx="2"/>
            </p:cNvCxnSpPr>
            <p:nvPr/>
          </p:nvCxnSpPr>
          <p:spPr>
            <a:xfrm flipV="1" rot="16200000">
              <a:off x="6427800" y="2095920"/>
              <a:ext cx="674640" cy="2146320"/>
            </a:xfrm>
            <a:prstGeom prst="bentConnector3">
              <a:avLst>
                <a:gd name="adj1" fmla="val 209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0" name="_s13329"/>
            <p:cNvCxnSpPr>
              <a:stCxn id="231" idx="0"/>
              <a:endCxn id="229" idx="2"/>
            </p:cNvCxnSpPr>
            <p:nvPr/>
          </p:nvCxnSpPr>
          <p:spPr>
            <a:xfrm flipV="1">
              <a:off x="5691960" y="2832120"/>
              <a:ext cx="2520" cy="674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2" name="_s13328"/>
            <p:cNvCxnSpPr>
              <a:stCxn id="233" idx="0"/>
              <a:endCxn id="229" idx="2"/>
            </p:cNvCxnSpPr>
            <p:nvPr/>
          </p:nvCxnSpPr>
          <p:spPr>
            <a:xfrm flipH="1" flipV="1" rot="5400000">
              <a:off x="4282200" y="2096280"/>
              <a:ext cx="674640" cy="2146320"/>
            </a:xfrm>
            <a:prstGeom prst="bentConnector3">
              <a:avLst>
                <a:gd name="adj1" fmla="val 209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9" name="_s13324"/>
            <p:cNvSpPr/>
            <p:nvPr/>
          </p:nvSpPr>
          <p:spPr>
            <a:xfrm>
              <a:off x="4772880" y="1484280"/>
              <a:ext cx="1838880" cy="1348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Tratado de Yal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3325"/>
            <p:cNvSpPr/>
            <p:nvPr/>
          </p:nvSpPr>
          <p:spPr>
            <a:xfrm>
              <a:off x="2627280" y="3506760"/>
              <a:ext cx="1838880" cy="1348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EEU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Roosvel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3326"/>
            <p:cNvSpPr/>
            <p:nvPr/>
          </p:nvSpPr>
          <p:spPr>
            <a:xfrm>
              <a:off x="4772880" y="3506760"/>
              <a:ext cx="1838880" cy="1348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Reino Uni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Church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3327"/>
            <p:cNvSpPr/>
            <p:nvPr/>
          </p:nvSpPr>
          <p:spPr>
            <a:xfrm>
              <a:off x="6918480" y="3506760"/>
              <a:ext cx="1838880" cy="1348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UR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Stal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3419640" y="4869000"/>
            <a:ext cx="1223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6732360" y="4869000"/>
            <a:ext cx="1368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859280" y="5661000"/>
            <a:ext cx="1584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uerra F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032360" cy="20113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3284640"/>
            <a:ext cx="26258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ÍNDICE</a:t>
            </a:r>
            <a:br>
              <a:rPr sz="1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ntecedentes Históricos: R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nálisis del Medioevo: Caso Ibé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imer Período: Mi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gundo Período: Colon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rcer Período: Imp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in del Predominio Europeo en el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2565360"/>
            <a:ext cx="1511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PL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2565360"/>
            <a:ext cx="1584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¿POR QU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141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4221000"/>
            <a:ext cx="1584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EDOMI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781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356000" y="1700280"/>
            <a:ext cx="1944720" cy="27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356000" y="3141720"/>
            <a:ext cx="19447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356000" y="4221000"/>
            <a:ext cx="18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437000"/>
            <a:ext cx="180036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16720" y="141300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LÍ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16720" y="2997360"/>
            <a:ext cx="215892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UL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43640" y="4005360"/>
            <a:ext cx="2305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72360" y="5589720"/>
            <a:ext cx="2447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LIGI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O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35640" y="2492280"/>
            <a:ext cx="33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"Tú, romano, recuerda tu misión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 rigiendo los pueblos con tu man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tas serán tus ar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oner leyes de paz, conceder tu favor a los humil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 abatir combatiendo a los soberbios"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1341360"/>
            <a:ext cx="1800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Éx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03640" y="1341360"/>
            <a:ext cx="2448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atados de Pa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64000" y="2637000"/>
            <a:ext cx="12970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Virgi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Eneid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56360" y="1341360"/>
            <a:ext cx="26654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iestas populi Roman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11280" y="155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651640" y="155736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76360" y="1844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2565360"/>
            <a:ext cx="1728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diosincra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84360" y="285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59280" y="292428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4005360"/>
            <a:ext cx="27352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 vis pacem, para bel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00720" y="5157720"/>
            <a:ext cx="1944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ellum ius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47640" y="3213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56000" y="4005360"/>
            <a:ext cx="1511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icer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19640" y="4221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76720" y="44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020000" y="3789360"/>
            <a:ext cx="1087200" cy="1604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79280" y="4581360"/>
            <a:ext cx="3970440" cy="1990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63640" y="558972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1476360" y="530064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1042560" y="5373720"/>
            <a:ext cx="360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84360" y="5445000"/>
            <a:ext cx="287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595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92360" y="5300640"/>
            <a:ext cx="3585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95640" y="558972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00360" y="5589720"/>
            <a:ext cx="5032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27280" y="580536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1116000" y="508464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97164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CASO IBÉ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3987720" cy="3171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V="1">
            <a:off x="4788000" y="980640"/>
            <a:ext cx="208908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48360" y="692280"/>
            <a:ext cx="201636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nquista Rom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or par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 Escipión (211 a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780000" y="2204640"/>
            <a:ext cx="302400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48360" y="1989000"/>
            <a:ext cx="2016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Toledano: Reino Visigo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410 d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348000" y="3141360"/>
            <a:ext cx="345600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48360" y="2852640"/>
            <a:ext cx="1584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nvasión Ára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711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851280" y="4292280"/>
            <a:ext cx="280836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77080" y="414972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conquista de Gra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1492 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627280" y="227628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8000" y="1700280"/>
            <a:ext cx="2519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ace Portugal: siglo X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2924280"/>
            <a:ext cx="151128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32720" y="5445000"/>
            <a:ext cx="2087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media de Bayo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1808 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33360"/>
            <a:ext cx="1835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inos Visig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052640"/>
            <a:ext cx="1835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inos Cristi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148428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916280"/>
            <a:ext cx="1908000" cy="47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arlos 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516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556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Felipe I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1556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1598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Felipe II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1598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1621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Felipe IV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1621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1665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Carlos I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1665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1700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Felipe V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1700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1724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Luis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 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1724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Felipe V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1724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1746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Fernando V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1746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1759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Carlos II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1759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1788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Carlos IV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1788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1808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José 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1808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1813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Fernando VI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1813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1833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Isabel I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1833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1868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Francisco Serrano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1868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1871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Amadeo 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1871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1873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1ª república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1873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1874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800"/>
            </a:b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Estanislao 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Figueras</a:t>
            </a:r>
            <a:br>
              <a:rPr sz="800"/>
            </a:b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Francisco 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56"/>
              </a:rPr>
              <a:t>Pi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57"/>
              </a:rPr>
              <a:t> y 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58"/>
              </a:rPr>
              <a:t>Margall</a:t>
            </a:r>
            <a:br>
              <a:rPr sz="800"/>
            </a:b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59"/>
              </a:rPr>
              <a:t>Nicolás Salmerón</a:t>
            </a:r>
            <a:br>
              <a:rPr sz="800"/>
            </a:b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60"/>
              </a:rPr>
              <a:t>Emilio 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61"/>
              </a:rPr>
              <a:t>Castelar</a:t>
            </a:r>
            <a:br>
              <a:rPr sz="800"/>
            </a:b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62"/>
              </a:rPr>
              <a:t>Francisco Serrano y Domínguez</a:t>
            </a:r>
            <a:br>
              <a:rPr sz="800"/>
            </a:b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63"/>
              </a:rPr>
              <a:t>Alfonso XI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64"/>
              </a:rPr>
              <a:t>1874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65"/>
              </a:rPr>
              <a:t>1885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66"/>
              </a:rPr>
              <a:t>Alfonso XII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67"/>
              </a:rPr>
              <a:t>1886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68"/>
              </a:rPr>
              <a:t>1931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69"/>
              </a:rPr>
              <a:t>2ª república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70"/>
              </a:rPr>
              <a:t>1931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71"/>
              </a:rPr>
              <a:t>1939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800"/>
            </a:b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72"/>
              </a:rPr>
              <a:t>Niceto Alcalá-Zamora</a:t>
            </a:r>
            <a:br>
              <a:rPr sz="800"/>
            </a:b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73"/>
              </a:rPr>
              <a:t>Manuel 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74"/>
              </a:rPr>
              <a:t>Azaña</a:t>
            </a:r>
            <a:br>
              <a:rPr sz="800"/>
            </a:b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Dictadu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rancisco Franco Bahamonde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(1939-197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Juan Carlos I (1975-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558972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84360" y="6237360"/>
            <a:ext cx="21589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Guerra Civ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1936-19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3280" y="638172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623736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Franco 1939-19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64360" y="6453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86560" y="6165720"/>
            <a:ext cx="16574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mocra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de 19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1476360" y="1987920"/>
            <a:ext cx="45468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ust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1080" y="4293000"/>
            <a:ext cx="454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orb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imer Período: Mi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44360" y="2719800"/>
            <a:ext cx="2668680" cy="2256120"/>
            <a:chOff x="144360" y="2719800"/>
            <a:chExt cx="2668680" cy="2256120"/>
          </a:xfrm>
        </p:grpSpPr>
        <p:sp>
          <p:nvSpPr>
            <p:cNvPr id="120" name="_s9270"/>
            <p:cNvSpPr/>
            <p:nvPr/>
          </p:nvSpPr>
          <p:spPr>
            <a:xfrm flipH="1">
              <a:off x="834840" y="4280760"/>
              <a:ext cx="323280" cy="17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9269"/>
            <p:cNvSpPr/>
            <p:nvPr/>
          </p:nvSpPr>
          <p:spPr>
            <a:xfrm>
              <a:off x="144360" y="4281840"/>
              <a:ext cx="741600" cy="694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Alcacov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9268"/>
            <p:cNvSpPr/>
            <p:nvPr/>
          </p:nvSpPr>
          <p:spPr>
            <a:xfrm>
              <a:off x="1798200" y="4280760"/>
              <a:ext cx="322200" cy="17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9267"/>
            <p:cNvSpPr/>
            <p:nvPr/>
          </p:nvSpPr>
          <p:spPr>
            <a:xfrm>
              <a:off x="2071440" y="4281840"/>
              <a:ext cx="741600" cy="694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Tordesill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9266"/>
            <p:cNvSpPr/>
            <p:nvPr/>
          </p:nvSpPr>
          <p:spPr>
            <a:xfrm flipV="1">
              <a:off x="1478160" y="3412440"/>
              <a:ext cx="0" cy="34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9265"/>
            <p:cNvSpPr/>
            <p:nvPr/>
          </p:nvSpPr>
          <p:spPr>
            <a:xfrm>
              <a:off x="1108080" y="2719800"/>
              <a:ext cx="741600" cy="694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Zaragoz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9264"/>
            <p:cNvSpPr/>
            <p:nvPr/>
          </p:nvSpPr>
          <p:spPr>
            <a:xfrm>
              <a:off x="1108080" y="3761280"/>
              <a:ext cx="741600" cy="694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tratado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39640" y="1341360"/>
            <a:ext cx="1008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spañ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1341360"/>
            <a:ext cx="1008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48360" y="1413000"/>
            <a:ext cx="1008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Utrumque I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40360" y="1989000"/>
            <a:ext cx="1008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mper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451640" y="1989000"/>
            <a:ext cx="1008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ap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40360" y="2565360"/>
            <a:ext cx="1008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° Roma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51640" y="2565360"/>
            <a:ext cx="1008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° Canón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2060640"/>
            <a:ext cx="1297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rincipales Pot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6093000"/>
            <a:ext cx="1008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6021360"/>
            <a:ext cx="2664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Tierras para la corona y almas para D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51640" y="6093000"/>
            <a:ext cx="2665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stado Misional Ind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732360" y="1628640"/>
            <a:ext cx="71892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51640" y="1628640"/>
            <a:ext cx="5050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3640" y="22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56720" y="22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92360" y="148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47640" y="148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093080" y="2781360"/>
            <a:ext cx="57456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2987280" y="1484280"/>
            <a:ext cx="280836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22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3851640" y="1484640"/>
            <a:ext cx="1008360" cy="7921800"/>
          </a:xfrm>
          <a:custGeom>
            <a:avLst/>
            <a:gdLst>
              <a:gd name="textAreaLeft" fmla="*/ 644400 w 1008360"/>
              <a:gd name="textAreaRight" fmla="*/ 1008360 w 1008360"/>
              <a:gd name="textAreaTop" fmla="*/ 312480 h 7921800"/>
              <a:gd name="textAreaBottom" fmla="*/ 7609320 h 792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63"/>
                  <a:pt x="10800" y="2725"/>
                </a:cubicBezTo>
                <a:lnTo>
                  <a:pt x="10800" y="8075"/>
                </a:lnTo>
                <a:cubicBezTo>
                  <a:pt x="10800" y="9438"/>
                  <a:pt x="5400" y="10800"/>
                  <a:pt x="0" y="10800"/>
                </a:cubicBezTo>
                <a:cubicBezTo>
                  <a:pt x="5400" y="10800"/>
                  <a:pt x="10800" y="12163"/>
                  <a:pt x="10800" y="13525"/>
                </a:cubicBezTo>
                <a:lnTo>
                  <a:pt x="10800" y="18875"/>
                </a:lnTo>
                <a:cubicBezTo>
                  <a:pt x="10800" y="202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2360" y="6165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48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2421000"/>
            <a:ext cx="129708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12000" y="3141720"/>
            <a:ext cx="10080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gl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3284640"/>
            <a:ext cx="129672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85080" y="4149720"/>
            <a:ext cx="10080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utor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953520" y="2979360"/>
            <a:ext cx="3109680" cy="2109960"/>
            <a:chOff x="3953520" y="2979360"/>
            <a:chExt cx="3109680" cy="2109960"/>
          </a:xfrm>
        </p:grpSpPr>
        <p:sp>
          <p:nvSpPr>
            <p:cNvPr id="155" name="_s9287"/>
            <p:cNvSpPr/>
            <p:nvPr/>
          </p:nvSpPr>
          <p:spPr>
            <a:xfrm flipH="1" flipV="1">
              <a:off x="4759560" y="3771000"/>
              <a:ext cx="373680" cy="13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9286"/>
            <p:cNvSpPr/>
            <p:nvPr/>
          </p:nvSpPr>
          <p:spPr>
            <a:xfrm>
              <a:off x="3953520" y="3374280"/>
              <a:ext cx="864360" cy="527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limus De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9285"/>
            <p:cNvSpPr/>
            <p:nvPr/>
          </p:nvSpPr>
          <p:spPr>
            <a:xfrm flipH="1">
              <a:off x="4760640" y="4166640"/>
              <a:ext cx="373320" cy="13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9284"/>
            <p:cNvSpPr/>
            <p:nvPr/>
          </p:nvSpPr>
          <p:spPr>
            <a:xfrm>
              <a:off x="3953520" y="4165920"/>
              <a:ext cx="864360" cy="527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um Diversa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9283"/>
            <p:cNvSpPr/>
            <p:nvPr/>
          </p:nvSpPr>
          <p:spPr>
            <a:xfrm>
              <a:off x="5509800" y="4298760"/>
              <a:ext cx="0" cy="26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9282"/>
            <p:cNvSpPr/>
            <p:nvPr/>
          </p:nvSpPr>
          <p:spPr>
            <a:xfrm>
              <a:off x="5076360" y="4561920"/>
              <a:ext cx="864000" cy="527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omanus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Pontifex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9280"/>
            <p:cNvSpPr/>
            <p:nvPr/>
          </p:nvSpPr>
          <p:spPr>
            <a:xfrm>
              <a:off x="5883480" y="4165920"/>
              <a:ext cx="373680" cy="13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9279"/>
            <p:cNvSpPr/>
            <p:nvPr/>
          </p:nvSpPr>
          <p:spPr>
            <a:xfrm>
              <a:off x="6198840" y="4165920"/>
              <a:ext cx="864360" cy="527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Aeterni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gi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9278"/>
            <p:cNvSpPr/>
            <p:nvPr/>
          </p:nvSpPr>
          <p:spPr>
            <a:xfrm flipV="1">
              <a:off x="5882400" y="3770280"/>
              <a:ext cx="373320" cy="13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9277"/>
            <p:cNvSpPr/>
            <p:nvPr/>
          </p:nvSpPr>
          <p:spPr>
            <a:xfrm>
              <a:off x="6198840" y="3374280"/>
              <a:ext cx="864360" cy="527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tercaete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9276"/>
            <p:cNvSpPr/>
            <p:nvPr/>
          </p:nvSpPr>
          <p:spPr>
            <a:xfrm flipV="1">
              <a:off x="5508720" y="3507120"/>
              <a:ext cx="0" cy="26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9275"/>
            <p:cNvSpPr/>
            <p:nvPr/>
          </p:nvSpPr>
          <p:spPr>
            <a:xfrm>
              <a:off x="5076360" y="2979360"/>
              <a:ext cx="864000" cy="527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Piis Fideliu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9274"/>
            <p:cNvSpPr/>
            <p:nvPr/>
          </p:nvSpPr>
          <p:spPr>
            <a:xfrm>
              <a:off x="5076360" y="3771000"/>
              <a:ext cx="864000" cy="527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Bula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1160" cy="12445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8028000" y="189000"/>
            <a:ext cx="9255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gundo Período: Cult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627280" y="1341360"/>
            <a:ext cx="4978080" cy="2737800"/>
            <a:chOff x="2627280" y="1341360"/>
            <a:chExt cx="4978080" cy="2737800"/>
          </a:xfrm>
        </p:grpSpPr>
        <p:cxnSp>
          <p:nvCxnSpPr>
            <p:cNvPr id="172" name="_s10252"/>
            <p:cNvCxnSpPr>
              <a:stCxn id="173" idx="0"/>
              <a:endCxn id="174" idx="2"/>
            </p:cNvCxnSpPr>
            <p:nvPr/>
          </p:nvCxnSpPr>
          <p:spPr>
            <a:xfrm flipV="1" rot="16200000">
              <a:off x="5713200" y="1838160"/>
              <a:ext cx="548280" cy="1743120"/>
            </a:xfrm>
            <a:prstGeom prst="bentConnector3">
              <a:avLst>
                <a:gd name="adj1" fmla="val 208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5" name="_s10251"/>
            <p:cNvCxnSpPr>
              <a:stCxn id="176" idx="0"/>
              <a:endCxn id="174" idx="2"/>
            </p:cNvCxnSpPr>
            <p:nvPr/>
          </p:nvCxnSpPr>
          <p:spPr>
            <a:xfrm flipV="1">
              <a:off x="5116320" y="2435760"/>
              <a:ext cx="2160" cy="54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7" name="_s10250"/>
            <p:cNvCxnSpPr>
              <a:stCxn id="178" idx="0"/>
              <a:endCxn id="174" idx="2"/>
            </p:cNvCxnSpPr>
            <p:nvPr/>
          </p:nvCxnSpPr>
          <p:spPr>
            <a:xfrm flipH="1" flipV="1" rot="5400000">
              <a:off x="3971160" y="1838520"/>
              <a:ext cx="548280" cy="1743120"/>
            </a:xfrm>
            <a:prstGeom prst="bentConnector3">
              <a:avLst>
                <a:gd name="adj1" fmla="val 208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4" name="_s10246"/>
            <p:cNvSpPr/>
            <p:nvPr/>
          </p:nvSpPr>
          <p:spPr>
            <a:xfrm>
              <a:off x="4369680" y="1341360"/>
              <a:ext cx="1493280" cy="1095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300" spc="-1" strike="noStrike">
                  <a:solidFill>
                    <a:srgbClr val="000000"/>
                  </a:solidFill>
                  <a:latin typeface="Arial"/>
                </a:rPr>
                <a:t>Nuevos País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0247"/>
            <p:cNvSpPr/>
            <p:nvPr/>
          </p:nvSpPr>
          <p:spPr>
            <a:xfrm>
              <a:off x="2627280" y="2984040"/>
              <a:ext cx="1493280" cy="1095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300" spc="-1" strike="noStrike">
                  <a:solidFill>
                    <a:srgbClr val="000000"/>
                  </a:solidFill>
                  <a:latin typeface="Arial"/>
                </a:rPr>
                <a:t>Inglaterr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10248"/>
            <p:cNvSpPr/>
            <p:nvPr/>
          </p:nvSpPr>
          <p:spPr>
            <a:xfrm>
              <a:off x="4369680" y="2984040"/>
              <a:ext cx="1493280" cy="1095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300" spc="-1" strike="noStrike">
                  <a:solidFill>
                    <a:srgbClr val="000000"/>
                  </a:solidFill>
                  <a:latin typeface="Arial"/>
                </a:rPr>
                <a:t>Franci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0249"/>
            <p:cNvSpPr/>
            <p:nvPr/>
          </p:nvSpPr>
          <p:spPr>
            <a:xfrm>
              <a:off x="6112080" y="2984040"/>
              <a:ext cx="1493280" cy="1095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300" spc="-1" strike="noStrike">
                  <a:solidFill>
                    <a:srgbClr val="000000"/>
                  </a:solidFill>
                  <a:latin typeface="Arial"/>
                </a:rPr>
                <a:t>Holand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 rot="5400000">
            <a:off x="4138920" y="405360"/>
            <a:ext cx="433440" cy="7921800"/>
          </a:xfrm>
          <a:custGeom>
            <a:avLst/>
            <a:gdLst>
              <a:gd name="textAreaLeft" fmla="*/ 276840 w 433440"/>
              <a:gd name="textAreaRight" fmla="*/ 433800 w 433440"/>
              <a:gd name="textAreaTop" fmla="*/ 312480 h 7921800"/>
              <a:gd name="textAreaBottom" fmla="*/ 7609320 h 792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63"/>
                  <a:pt x="10800" y="2725"/>
                </a:cubicBezTo>
                <a:lnTo>
                  <a:pt x="10800" y="8075"/>
                </a:lnTo>
                <a:cubicBezTo>
                  <a:pt x="10800" y="9438"/>
                  <a:pt x="5400" y="10800"/>
                  <a:pt x="0" y="10800"/>
                </a:cubicBezTo>
                <a:cubicBezTo>
                  <a:pt x="5400" y="10800"/>
                  <a:pt x="10800" y="12163"/>
                  <a:pt x="10800" y="13525"/>
                </a:cubicBezTo>
                <a:lnTo>
                  <a:pt x="10800" y="18875"/>
                </a:lnTo>
                <a:cubicBezTo>
                  <a:pt x="10800" y="202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4581360"/>
            <a:ext cx="1297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lon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63640" y="5589720"/>
            <a:ext cx="1297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trópo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56000" y="5734080"/>
            <a:ext cx="22338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Hombres Superi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3640" y="4797360"/>
            <a:ext cx="1297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ique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627280" y="4869000"/>
            <a:ext cx="1655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otestant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4653000"/>
            <a:ext cx="1297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árba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2592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ercer Período: Técn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1125360"/>
            <a:ext cx="1297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vo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92360" y="148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84360" y="1268280"/>
            <a:ext cx="2592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Hacer Producir, Explo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148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84720" y="1341360"/>
            <a:ext cx="230364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ercer m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95280" y="2276640"/>
            <a:ext cx="4249440" cy="2335680"/>
            <a:chOff x="395280" y="2276640"/>
            <a:chExt cx="4249440" cy="2335680"/>
          </a:xfrm>
        </p:grpSpPr>
        <p:cxnSp>
          <p:nvCxnSpPr>
            <p:cNvPr id="194" name="_s11275"/>
            <p:cNvCxnSpPr>
              <a:stCxn id="195" idx="0"/>
              <a:endCxn id="196" idx="2"/>
            </p:cNvCxnSpPr>
            <p:nvPr/>
          </p:nvCxnSpPr>
          <p:spPr>
            <a:xfrm flipV="1" rot="16200000">
              <a:off x="3029400" y="2700000"/>
              <a:ext cx="467640" cy="1487880"/>
            </a:xfrm>
            <a:prstGeom prst="bentConnector3">
              <a:avLst>
                <a:gd name="adj1" fmla="val 208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7" name="_s11276"/>
            <p:cNvCxnSpPr>
              <a:stCxn id="198" idx="0"/>
              <a:endCxn id="196" idx="2"/>
            </p:cNvCxnSpPr>
            <p:nvPr/>
          </p:nvCxnSpPr>
          <p:spPr>
            <a:xfrm flipV="1">
              <a:off x="2519640" y="3210120"/>
              <a:ext cx="1800" cy="46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9" name="_s11277"/>
            <p:cNvCxnSpPr>
              <a:stCxn id="200" idx="0"/>
              <a:endCxn id="196" idx="2"/>
            </p:cNvCxnSpPr>
            <p:nvPr/>
          </p:nvCxnSpPr>
          <p:spPr>
            <a:xfrm flipH="1" flipV="1" rot="5400000">
              <a:off x="1542240" y="2700000"/>
              <a:ext cx="467640" cy="1487880"/>
            </a:xfrm>
            <a:prstGeom prst="bentConnector3">
              <a:avLst>
                <a:gd name="adj1" fmla="val 208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6" name="_s11278"/>
            <p:cNvSpPr/>
            <p:nvPr/>
          </p:nvSpPr>
          <p:spPr>
            <a:xfrm>
              <a:off x="1882440" y="2276640"/>
              <a:ext cx="1274760" cy="93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Nuevos País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1279"/>
            <p:cNvSpPr/>
            <p:nvPr/>
          </p:nvSpPr>
          <p:spPr>
            <a:xfrm>
              <a:off x="395280" y="3678120"/>
              <a:ext cx="1274760" cy="93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Alemani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1280"/>
            <p:cNvSpPr/>
            <p:nvPr/>
          </p:nvSpPr>
          <p:spPr>
            <a:xfrm>
              <a:off x="1882440" y="3678120"/>
              <a:ext cx="1274760" cy="93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Bélgic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1281"/>
            <p:cNvSpPr/>
            <p:nvPr/>
          </p:nvSpPr>
          <p:spPr>
            <a:xfrm>
              <a:off x="3369960" y="3678120"/>
              <a:ext cx="1274760" cy="93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Itali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1979280" y="4653000"/>
            <a:ext cx="14436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8360" y="544500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legan Ta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03640" y="5850000"/>
            <a:ext cx="647640" cy="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95640" y="5516640"/>
            <a:ext cx="1871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084720" y="1989000"/>
            <a:ext cx="28670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Fin del Predominio Europ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71640" y="1413000"/>
            <a:ext cx="1871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ída de Españ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43280" y="16286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19640" y="1341360"/>
            <a:ext cx="23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uerra de Cuba 1.8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24360" y="162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1341360"/>
            <a:ext cx="2232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octrina Monr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71640" y="2492280"/>
            <a:ext cx="1871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imera Gu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92360" y="299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00000" y="3500280"/>
            <a:ext cx="19432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rge EEU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3640" y="2421000"/>
            <a:ext cx="215892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treguer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284720" y="2997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03640" y="3573360"/>
            <a:ext cx="2303280" cy="165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atado de Versa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ída de La bol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acionalis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volución R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UR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84720" y="2349360"/>
            <a:ext cx="273528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gunda Guerra Mund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24720" y="2997360"/>
            <a:ext cx="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80000" y="3645000"/>
            <a:ext cx="3419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trucción completa de Eu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24720" y="4149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867280" y="4797360"/>
            <a:ext cx="302580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atado de Ya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00000" y="4005360"/>
            <a:ext cx="1905120" cy="25905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643280" y="5300640"/>
            <a:ext cx="112248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21:37:44Z</dcterms:created>
  <dc:creator>Gonzalo Vidueira</dc:creator>
  <dc:description/>
  <dc:language>en-US</dc:language>
  <cp:lastModifiedBy>Gonzalo Vidueira</cp:lastModifiedBy>
  <dcterms:modified xsi:type="dcterms:W3CDTF">2006-12-04T20:18:21Z</dcterms:modified>
  <cp:revision>8</cp:revision>
  <dc:subject/>
  <dc:title>HISTORIA DEL PREDOMINIO EUROPEO EN EL ORBE.</dc:title>
</cp:coreProperties>
</file>