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FBC-29B6-4952-85DC-35240A3E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179-6D68-45B2-B1A9-0318F5F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7C0-6A3B-489D-81CB-6A3F18F5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197-AA7D-4C5F-9072-3B36625C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98A-DB7E-4411-A0E9-8E5B8B4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AD3-C722-44F9-BDF4-50CC2AD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77F-D4D5-4443-A9B5-EDD41DC0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B15-1DCE-4855-B470-D360326D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06A-AFDF-42FE-8BC2-3249E91E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927-9EB2-4D47-9135-32154DBA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67B-1291-4F12-A5B0-9C5ACC4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A26-0EE2-40CD-AAB3-87B337F9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4CFB-2195-44AD-82A0-B1C24E227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8000" y="493560"/>
          <a:ext cx="865008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5008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0840" y="493560"/>
          <a:ext cx="847692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93560"/>
                    <a:ext cx="847692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5120"/>
          <a:ext cx="84754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754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63600" y="465120"/>
          <a:ext cx="84614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614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63600" y="465120"/>
          <a:ext cx="84470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470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5120" y="493560"/>
          <a:ext cx="82868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868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1-06T11:04:53Z</dcterms:modified>
  <cp:revision>56</cp:revision>
  <dc:subject/>
  <dc:title>Sin título de diapositiva</dc:title>
</cp:coreProperties>
</file>