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937-58CE-41D4-88B9-885EFA4F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9FD-A4A9-4CE5-8CAC-1AEDE960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7CE-AF5B-4238-8AFF-89CE7563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9DD-7F7D-450D-B87A-F73FF069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D4E-2270-4E34-802B-3FADCED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00E-0460-45A4-8624-2AE68DF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D5B-91A6-48EA-9E67-EFA3FEC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983-42B0-4BBD-84DC-C5B689BC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043-1C4B-43D3-94CD-2A7B2CB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6EA-183E-429C-B6DD-0568347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500-50E5-401B-B8FD-ED0CBEC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8F6-317F-4AFA-9EC6-A61A1C9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2A9-43C1-478E-BFE1-EB84A5FF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8000" y="493560"/>
          <a:ext cx="865008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5008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0840" y="493560"/>
          <a:ext cx="847692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93560"/>
                    <a:ext cx="847692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5120"/>
          <a:ext cx="84754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754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63600" y="465120"/>
          <a:ext cx="84614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614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63600" y="465120"/>
          <a:ext cx="84470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470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5120" y="493560"/>
          <a:ext cx="82868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868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1-06T11:04:53Z</dcterms:modified>
  <cp:revision>56</cp:revision>
  <dc:subject/>
  <dc:title>Sin título de diapositiva</dc:title>
</cp:coreProperties>
</file>