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706-4151-406B-9EF1-FDA6221F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CCA-801A-4CC0-ACCE-B64DEC4B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106-8FF2-4A8B-98C7-60E964F4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A940-63EC-4275-BEDE-19C91A90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2BA-279E-4A69-A9C5-CCDCD785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A25-4D91-4A05-82CB-C6888CFA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15D-F8E6-4B64-A06E-58C4BA7F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9B2-319A-4812-9504-94060B01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08C-D2C0-4647-85F2-24218CA0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499-1D9D-42B4-B9D2-613B92DE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615-B5B6-4E1F-9D52-F8687383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425-7B39-4A51-92EB-16CAFBB5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A191-0889-4F97-98D8-904F9CC19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Calcular velocidad de un móvil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=U.readDouble(“distancia(metros)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=U.readDouble(“tiempo(segundos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+(d/1000)/(t/3600)+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 + 3.6*d/t + 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25520" y="501480"/>
          <a:ext cx="855504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501480"/>
                    <a:ext cx="85550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78000" y="493560"/>
          <a:ext cx="865008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65008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8000" y="493560"/>
          <a:ext cx="8707320" cy="74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707320" cy="74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0840" y="493560"/>
          <a:ext cx="8476920" cy="60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93560"/>
                    <a:ext cx="8476920" cy="60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63600" y="465120"/>
          <a:ext cx="847548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5120"/>
                    <a:ext cx="847548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63600" y="465120"/>
          <a:ext cx="84614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5120"/>
                    <a:ext cx="84614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63600" y="465120"/>
          <a:ext cx="844704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5120"/>
                    <a:ext cx="844704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5120" y="493560"/>
          <a:ext cx="8286840" cy="632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93560"/>
                    <a:ext cx="8286840" cy="632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65120"/>
          <a:ext cx="844704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65120"/>
                    <a:ext cx="844704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65120" y="465120"/>
          <a:ext cx="8447040" cy="61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65120"/>
                    <a:ext cx="844704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76440" y="501480"/>
          <a:ext cx="7991280" cy="60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501480"/>
                    <a:ext cx="799128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15920" y="420840"/>
          <a:ext cx="9056520" cy="67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420840"/>
                    <a:ext cx="9056520" cy="67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0-01-06T11:04:53Z</dcterms:modified>
  <cp:revision>56</cp:revision>
  <dc:subject/>
  <dc:title>Sin título de diapositiva</dc:title>
</cp:coreProperties>
</file>