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990-DB0D-45EF-BE41-07F84087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EC8-90DA-4A7C-B43A-DF6759D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4F9-D7B0-4E51-AACA-C438FE30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3E3-7DF0-495C-8253-6DF42884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5EC-AEC7-448D-9F0E-0DBDBB0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6EE-509B-4573-9DAD-36F1773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31C-BF86-46BF-8AD1-1ED98FF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303-7548-46E4-9E77-F58BAFA0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79A-665D-488C-8779-192A29E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3D5-9EAF-43E8-A75A-1E79EF2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072-2450-451E-822C-133C3A8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D2F-287E-4C5A-ABFD-C3FDDC2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3007-076E-45AA-9C04-30562DF8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74720" y="2023920"/>
          <a:ext cx="7486560" cy="39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023920"/>
                    <a:ext cx="7486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20720" y="2023920"/>
          <a:ext cx="7356600" cy="37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023920"/>
                    <a:ext cx="735660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ción de interés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to de la plétora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Introducción a la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manejo de números: enteros y reales, lectura, escritura, cálculo,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instrucciones de control: selección y 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clases y objetos predefinidos: strings, 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lases definidas por program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interfaces con 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90520" y="2309760"/>
          <a:ext cx="65455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309760"/>
                    <a:ext cx="6545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do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0-01-05T18:13:47Z</dcterms:modified>
  <cp:revision>23</cp:revision>
  <dc:subject/>
  <dc:title>Un curso intensivo de Introducción a la Programación Orientada a Objetos en Java  para estudiantes de secundaria </dc:title>
</cp:coreProperties>
</file>