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FBC-959A-425A-AD3B-93B6D248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DD9-5A61-4B61-91C9-0E783251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457-6037-4D76-A643-B9F539B6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84A7-610B-4FDD-9E92-5F244073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0A8-0E19-4AC8-86D6-E26D9E52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A0A-E3E9-49AF-BA46-0E896F3F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436-1E18-40E8-BA7A-1FCF8F24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E8C-EB5A-4DED-9F91-D2EF85DC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AF1-2766-452B-A212-DEFFA36F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4FC-246F-43C8-BA31-544EE773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458-EC8F-4F75-A4AD-EA3490E5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4AEC-4C3E-427C-AC56-75E4D867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E2E6-98F8-4452-A9AE-715476628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0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 de orientación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6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74720" y="2023920"/>
          <a:ext cx="7486560" cy="39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2023920"/>
                    <a:ext cx="74865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4 tareas (4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20720" y="2023920"/>
          <a:ext cx="7356600" cy="37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2023920"/>
                    <a:ext cx="7356600" cy="37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undir estu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iplina de Computación (Infor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ela de Ingeniería U.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raer estudian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minución de interés por especi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ito de la plétora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anar” p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pectiva de asignatura para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pa Concep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41360"/>
            <a:ext cx="80578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Introducción a la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1 manejo de números: enteros y reales, lectura, escritura, cálculo, fu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2 instrucciones de control: selección y repet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 clases y objetos predefinidos: strings, arch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 clases definidas por program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 interfaces con el us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s centradas en alumnos y re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yudantías-laboratorios: alumnos resuelven problemas en laboratorio con supervisión de profesor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reas: alumnos resuelven problemas en laboratorios supervisados y abi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190520" y="2309760"/>
          <a:ext cx="6545520" cy="38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309760"/>
                    <a:ext cx="654552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un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(30-4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lantea un problema y presenta contenidos para resolv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umnos resuelven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resenta y analiza dos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0-01-05T18:13:47Z</dcterms:modified>
  <cp:revision>23</cp:revision>
  <dc:subject/>
  <dc:title>Un curso intensivo de Introducción a la Programación Orientada a Objetos en Java  para estudiantes de secundaria </dc:title>
</cp:coreProperties>
</file>