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615-8050-4E0B-BD08-DBB6C9B4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4F7-86C0-4886-8629-347A2542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632-2C0D-4110-BE4E-5C12292D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DBC-5175-4B42-86F9-80FBF7B9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4E9-6A5D-42E9-88CA-02B0D396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0B7-2E8D-4D24-A8EE-D60E56BE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E4A-D763-49A9-B4B6-6BFD8EC9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D05-B5CE-4FE7-A962-1515025D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AAC-A88A-42B0-8927-DB3C21EC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5F8-830D-44D0-9193-8244537F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5A3-1725-4308-9554-3A88D36E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39B-DD79-45C1-93A4-82107072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BD06-26F1-4A0E-B9AC-91C2E7E97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0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74720" y="2023920"/>
          <a:ext cx="7486560" cy="39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023920"/>
                    <a:ext cx="74865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20720" y="2023920"/>
          <a:ext cx="7356600" cy="37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2023920"/>
                    <a:ext cx="7356600" cy="37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minución de interés por espec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to de la plétora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41360"/>
            <a:ext cx="80578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Introducción a la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1 manejo de números: enteros y reales, lectura, escritura, cálculo, fu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2 instrucciones de control: selección y repet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 clases y objetos predefinidos: strings, arch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 clases definidas por program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 interfaces con el us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90520" y="2309760"/>
          <a:ext cx="6545520" cy="38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309760"/>
                    <a:ext cx="65455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dos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0-01-05T18:13:47Z</dcterms:modified>
  <cp:revision>23</cp:revision>
  <dc:subject/>
  <dc:title>Un curso intensivo de Introducción a la Programación Orientada a Objetos en Java  para estudiantes de secundaria </dc:title>
</cp:coreProperties>
</file>