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843-EF3E-4E6A-BB11-A5F41849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FA7-15BD-444B-B59E-8CE73F1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537-7174-4DE1-8C2A-35D65A5B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1EA-108C-404B-AA5B-82BB10FA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B9E-9B91-46FB-80CA-CAB2A8F9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330-FD22-4282-9DFF-768CDD4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4F1-5106-4D07-90CF-F911FED7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56D-85D3-461B-A0DD-A23437F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936-E9D9-4E49-B099-C7756A0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70C-F575-4241-A2E8-73591C4E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473-468E-4AC3-9940-2809C83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B2E-EF2F-4A22-9E8E-09AE9B5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2B55FB7B-5560-4F3A-A48B-F17DF8DC65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9-12-30T19:55:06Z</dcterms:modified>
  <cp:revision>71</cp:revision>
  <dc:subject/>
  <dc:title>Sin título de diapositiva</dc:title>
</cp:coreProperties>
</file>