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01A-2721-4E2F-9219-65D7DE38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1B2-36FE-4DE4-AFB0-F49D89BB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358-376C-42D2-AC4F-E229BCD1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9B4-919B-467E-B1A2-341796C1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EE4-94E3-456C-B9EA-E32A2344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411-FAB5-49D9-9D9E-331CDB49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6F2-B2E7-44AE-8C36-ED47949B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792-59FE-42E6-A0C7-0B145B73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D38-B60F-41D2-822B-E372A189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C0F-B37F-442F-993D-654DE2B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436-A0A8-409B-8C38-000BF269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BA7-02D7-42A0-84BC-A034FD9D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7E993AF6-AEE4-4AE9-BCAA-A39430E24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3124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3124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9-12-30T19:55:06Z</dcterms:modified>
  <cp:revision>71</cp:revision>
  <dc:subject/>
  <dc:title>Sin título de diapositiva</dc:title>
</cp:coreProperties>
</file>